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0.jpeg" ContentType="image/jpeg"/>
  <Override PartName="/ppt/media/image29.jpeg" ContentType="image/jpeg"/>
  <Override PartName="/ppt/media/image31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0.png" ContentType="image/png"/>
  <Override PartName="/ppt/media/image9.jpeg" ContentType="image/jpeg"/>
  <Override PartName="/ppt/media/image11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6.jpeg" ContentType="image/jpeg"/>
  <Override PartName="/ppt/media/image30.jpeg" ContentType="image/jpeg"/>
  <Override PartName="/ppt/media/image24.jpeg" ContentType="image/jpeg"/>
  <Override PartName="/ppt/media/image47.jpeg" ContentType="image/jpeg"/>
  <Override PartName="/ppt/media/image5.png" ContentType="image/png"/>
  <Override PartName="/ppt/media/image43.jpeg" ContentType="image/jpeg"/>
  <Override PartName="/ppt/media/image13.jpeg" ContentType="image/jpeg"/>
  <Override PartName="/ppt/media/image4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7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103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2.xml.rels" ContentType="application/vnd.openxmlformats-package.relationships+xml"/>
  <Override PartName="/ppt/slides/_rels/slide25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69.xml.rels" ContentType="application/vnd.openxmlformats-package.relationships+xml"/>
  <Override PartName="/ppt/slides/_rels/slide5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149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52.xml.rels" ContentType="application/vnd.openxmlformats-package.relationships+xml"/>
  <Override PartName="/ppt/slides/_rels/slide55.xml.rels" ContentType="application/vnd.openxmlformats-package.relationships+xml"/>
  <Override PartName="/ppt/slides/_rels/slide29.xml.rels" ContentType="application/vnd.openxmlformats-package.relationships+xml"/>
  <Override PartName="/ppt/slides/_rels/slide40.xml.rels" ContentType="application/vnd.openxmlformats-package.relationships+xml"/>
  <Override PartName="/ppt/slides/_rels/slide145.xml.rels" ContentType="application/vnd.openxmlformats-package.relationships+xml"/>
  <Override PartName="/ppt/slides/_rels/slide130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5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2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9.xml.rels" ContentType="application/vnd.openxmlformats-package.relationships+xml"/>
  <Override PartName="/ppt/slides/_rels/slide100.xml.rels" ContentType="application/vnd.openxmlformats-package.relationships+xml"/>
  <Override PartName="/ppt/slides/_rels/slide23.xml.rels" ContentType="application/vnd.openxmlformats-package.relationships+xml"/>
  <Override PartName="/ppt/slides/_rels/slide13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113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44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_rels/slide93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28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54.xml" ContentType="application/vnd.openxmlformats-officedocument.presentationml.slide+xml"/>
  <Override PartName="/ppt/slides/slide150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D920-4615-4333-9C67-69DA79C6D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10BB-F89E-41B7-80E5-505A9DB09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4634-5BF1-44E6-8D04-1754BDCD1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65F6-E460-46B0-B77F-AE345B4C2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4A522-7B8C-4A6B-BE20-B2A5053A6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144FC-5A1D-4F3B-A5DA-FD9F9FDD5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4E870-A510-40D9-A7DE-F4FEB41F7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91B8F-8664-429D-B94B-91657166C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D848B-6ED8-45B0-A1D4-FD23725CB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EAD30-F25E-4FB7-8C6F-075AFD4E4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D1FA3-D599-4C79-BE3F-54040CD3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5ABD-BEAB-4DCE-B7AE-26D75C59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002EC-6B19-49BF-A16E-6D5E509A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9E77D-19DC-4A12-9759-CACB2B1D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749E2-B3B5-4841-BA4E-00ECA7053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FE46F-82C6-4622-B882-9C1675202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CA22E-5F23-4C07-89A1-4021BCE43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127D-3607-4FB4-AE17-EB490A0D7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85F8-3706-4702-95F7-A67653257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BCD2-735D-427A-B8BE-B1A8A6A68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9CEC-6D93-4205-8083-84D5B451A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9D42-451E-4944-883E-1E6BDD91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E08F-AB49-4D49-80EB-2BAD81E2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8591-81B8-4D88-9A4B-BEC0BAFF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15DF2-7028-480E-9509-CC6CD4653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C8F2D-E449-4A04-8D60-C653B12C0C9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pload.wikimedia.org/wikipedia/commons/0/03/Alligator_Left_Forepaw.jpg&amp;imgrefurl=http://commons.wikimedia.org/wiki/Image:Alligator_Left_Forepaw.jpg&amp;usg=__yTsUEjYs4mRJn75BXVSzFMuqU7Q=&amp;h=1360&amp;w=2048&amp;sz=2471&amp;hl=en&amp;start=5&amp;tbnid=4cY47q5r11qhGM:&amp;tbnh=100&amp;tbnw=150&amp;prev=/images?q=forepaw&amp;gbv=2&amp;hl=en" TargetMode="External"/><Relationship Id="rId2" Type="http://schemas.openxmlformats.org/officeDocument/2006/relationships/image" Target="../media/image41.jpeg"/><Relationship Id="rId3" Type="http://schemas.openxmlformats.org/officeDocument/2006/relationships/hyperlink" Target="http://images.google.com/imgres?imgurl=http://farm1.static.flickr.com/56/171846585_eddff70243.jpg?v=0&amp;imgrefurl=http://www.flickr.com/photos/jocelyne_h/171846585/&amp;usg=__9VTWQzVFwOKwPNBzXy_sWRZsWuk=&amp;h=435&amp;w=500&amp;sz=177&amp;hl=en&amp;start=112&amp;tbnid=mSCoK6CWNLukNM:&amp;tbnh=113&amp;tbnw=130&amp;prev=/images?q=forepaw&amp;start=100&amp;gbv=2&amp;ndsp=20&amp;hl=en&amp;sa=N" TargetMode="External"/><Relationship Id="rId4" Type="http://schemas.openxmlformats.org/officeDocument/2006/relationships/image" Target="../media/image42.jpeg"/><Relationship Id="rId5" Type="http://schemas.openxmlformats.org/officeDocument/2006/relationships/hyperlink" Target="http://images.google.com/imgres?imgurl=http://static.howstuffworks.com/gif/willow/koala-info0.gif&amp;imgrefurl=http://animals.howstuffworks.com/mammals/koala-info.htm&amp;usg=__HU0MSwPePl5BS8228-hRRdfiZS4=&amp;h=300&amp;w=261&amp;sz=56&amp;hl=en&amp;start=114&amp;tbnid=fu1ix87N6BU78M:&amp;tbnh=116&amp;tbnw=101&amp;prev=/images?q=forepaw&amp;start=100&amp;gbv=2&amp;ndsp=20&amp;hl=en&amp;sa=N" TargetMode="External"/><Relationship Id="rId6" Type="http://schemas.openxmlformats.org/officeDocument/2006/relationships/image" Target="../media/image43.jpeg"/><Relationship Id="rId7" Type="http://schemas.openxmlformats.org/officeDocument/2006/relationships/image" Target="../media/image44.jpeg"/><Relationship Id="rId8" Type="http://schemas.openxmlformats.org/officeDocument/2006/relationships/image" Target="../media/image45.jpeg"/><Relationship Id="rId9" Type="http://schemas.openxmlformats.org/officeDocument/2006/relationships/image" Target="../media/image46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bedbugger.files.wordpress.com/2006/10/common_bed_bug_lifecycle.jpg&amp;imgrefurl=http://bedbugger.com/photos-of-bed-bugs-and-signs-of-bed-bugs/&amp;usg=__bhAaW0oWJ75_GOga6wPO1WTJ2yw=&amp;h=1200&amp;w=1170&amp;sz=768&amp;hl=en&amp;start=23&amp;tbnid=7-IuTpmXdFItaM:&amp;tbnh=150&amp;tbnw=146&amp;prev=/images?q=life+stage&amp;start=20&amp;gbv=2&amp;ndsp=20&amp;hl=en&amp;sa=N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/imgres?imgurl=http://www.arborday.org/trees/graphics/tls-characters.jpg&amp;imgrefurl=http://www.arborday.org/trees/lifestages/&amp;usg=__36DUdn4F51d-cuRhwQKrAVKYCKw=&amp;h=200&amp;w=400&amp;sz=19&amp;hl=en&amp;start=4&amp;tbnid=PC9RrL52P37tiM:&amp;tbnh=62&amp;tbnw=124&amp;prev=/images?q=life+stage&amp;gbv=2&amp;ndsp=20&amp;hl=en&amp;sa=N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online-stopwatch.com/full-screen-stopwatch/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Class%20Tools/Frogs.htm" TargetMode="External"/><Relationship Id="rId2" Type="http://schemas.openxmlformats.org/officeDocument/2006/relationships/hyperlink" Target="http://www.scottsboro.org/~flewis/SF%20Reading%20Street/spellmaster/Frogs/jigword2.html" TargetMode="External"/><Relationship Id="rId3" Type="http://schemas.openxmlformats.org/officeDocument/2006/relationships/hyperlink" Target="http://www.scottsboro.org/~flewis/SF%20Reading%20Street/spellmaster/Frogs/matchword2.html" TargetMode="External"/><Relationship Id="rId4" Type="http://schemas.openxmlformats.org/officeDocument/2006/relationships/hyperlink" Target="http://www.scottsboro.org/~flewis/SF%20Reading%20Street/spellmaster/Frogs/speedword2.html" TargetMode="External"/><Relationship Id="rId5" Type="http://schemas.openxmlformats.org/officeDocument/2006/relationships/hyperlink" Target="http://www.scottsboro.org/~flewis/SF%20Reading%20Street/spellmaster/Frogs/wordweb.html" TargetMode="External"/><Relationship Id="rId6" Type="http://schemas.openxmlformats.org/officeDocument/2006/relationships/hyperlink" Target="http://www.scottsboro.org/~flewis/SF%20Reading%20Street/spellmaster/Frogs/wordweb.html" TargetMode="External"/><Relationship Id="rId7" Type="http://schemas.openxmlformats.org/officeDocument/2006/relationships/hyperlink" Target="http://www.spellingcity.com/index.php?option=com_spellcity&amp;task=viewList&amp;listId=825573" TargetMode="External"/><Relationship Id="rId8" Type="http://schemas.openxmlformats.org/officeDocument/2006/relationships/hyperlink" Target="http://www.spellingcity.com/index.php?option=com_spellcity&amp;task=viewList&amp;listId=825576" TargetMode="External"/><Relationship Id="rId9" Type="http://schemas.openxmlformats.org/officeDocument/2006/relationships/hyperlink" Target="http://www.scottsboro.org/~flewis/SF%20Reading%20Street/spellmaster/Frogs%20Spelling%20Words/speedword2.html" TargetMode="External"/><Relationship Id="rId10" Type="http://schemas.openxmlformats.org/officeDocument/2006/relationships/hyperlink" Target="http://www.scottsboro.org/~flewis/SF%20Reading%20Street/spellmaster/Frogs%20Spelling%20Words/wordweb.html" TargetMode="External"/><Relationship Id="rId11" Type="http://schemas.openxmlformats.org/officeDocument/2006/relationships/hyperlink" Target="http://www.quia.com/rr/233107.html" TargetMode="External"/><Relationship Id="rId12" Type="http://schemas.openxmlformats.org/officeDocument/2006/relationships/hyperlink" Target="http://www.spellingcity.com/index.php?option=com_spellcity&amp;Itemid=122&amp;task=viewList&amp;listId=354271" TargetMode="External"/><Relationship Id="rId13" Type="http://schemas.openxmlformats.org/officeDocument/2006/relationships/hyperlink" Target="http://www.spellingcity.com/index.php?option=com_spellcity&amp;task=viewList&amp;listId=825581" TargetMode="External"/><Relationship Id="rId1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75.xml"/><Relationship Id="rId3" Type="http://schemas.openxmlformats.org/officeDocument/2006/relationships/slide" Target="slide103.xml"/><Relationship Id="rId4" Type="http://schemas.openxmlformats.org/officeDocument/2006/relationships/slide" Target="slide124.xml"/><Relationship Id="rId5" Type="http://schemas.openxmlformats.org/officeDocument/2006/relationships/slide" Target="slide140.xml"/><Relationship Id="rId6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ostaricanconnection.net/imgs/Honeymoons/canopy2.jpg&amp;imgrefurl=http://www.costaricanconnection.net/Honeymoons/costaricahoneymooninheaven.html&amp;usg=__LtVF_DmYe9Bt1O445zwa3UIz4d0=&amp;h=960&amp;w=1280&amp;sz=295&amp;hl=en&amp;start=1&amp;tbnid=uNp_qqC4fFYanM:&amp;tbnh=113&amp;tbnw=150&amp;prev=/images?q=canopy&amp;gbv=2&amp;hl=en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google.com/imgres?imgurl=http://www.backyardcity.com/images/PPS/Universal-Canopy-1013.jpg&amp;imgrefurl=http://www.backyardcity.com/shade/canopies/PPS-Universal-Canopy-1013.htm&amp;usg=__vxNa3LHmmFg6mfq6e7n8rSowZDQ=&amp;h=409&amp;w=600&amp;sz=66&amp;hl=en&amp;start=3&amp;tbnid=0AYu0_V1f3V11M:&amp;tbnh=92&amp;tbnw=135&amp;prev=/images?q=canopy&amp;gbv=2&amp;hl=en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images.google.com/imgres?imgurl=http://www.germes-online.com/direct/dbimage/50268647/Square_Bed_Canopy_with_Rose.jpg&amp;imgrefurl=http://www.germes-online.com/catalog/26/844/308361/sell_fly_swatter_jc_e07we_.html&amp;usg=__zRMndCurdobFTlPnkDrBeS7zazY=&amp;h=360&amp;w=360&amp;sz=14&amp;hl=en&amp;start=8&amp;tbnid=8BofuLoC6Wq9yM:&amp;tbnh=121&amp;tbnw=121&amp;prev=/images?q=canopy&amp;gbv=2&amp;hl=en" TargetMode="External"/><Relationship Id="rId6" Type="http://schemas.openxmlformats.org/officeDocument/2006/relationships/image" Target="../media/image8.jpeg"/><Relationship Id="rId7" Type="http://schemas.openxmlformats.org/officeDocument/2006/relationships/hyperlink" Target="http://images.google.com/imgres?imgurl=http://www.global-b2b-network.com/direct/dbimage/50280896/Canopy.jpg&amp;imgrefurl=http://www.global-b2b-network.com/b2b/26/40/822/awning_and_canopy.html&amp;usg=__7yaUGVr1hQwKllOivuZsNuJy3Wc=&amp;h=360&amp;w=360&amp;sz=18&amp;hl=en&amp;start=13&amp;tbnid=tqRNmTRC6AwmcM:&amp;tbnh=121&amp;tbnw=121&amp;prev=/images?q=canopy&amp;gbv=2&amp;hl=en" TargetMode="External"/><Relationship Id="rId8" Type="http://schemas.openxmlformats.org/officeDocument/2006/relationships/image" Target="../media/image9.jpeg"/><Relationship Id="rId9" Type="http://schemas.openxmlformats.org/officeDocument/2006/relationships/hyperlink" Target="http://images.google.com/imgres?imgurl=http://www.valleycanvas.com/images/editor/roof_mounted_beam_canopy.jpg&amp;imgrefurl=http://www.valleycanvas.com/?catID=2&amp;pageID=24&amp;location=residential&amp;usg=__y8ddbLiKEqM6GpLJWCc8KfiF63w=&amp;h=375&amp;w=500&amp;sz=76&amp;hl=en&amp;start=29&amp;tbnid=prM2cEZtstJlfM:&amp;tbnh=98&amp;tbnw=130&amp;prev=/images?q=canopy&amp;start=20&amp;gbv=2&amp;ndsp=20&amp;hl=en&amp;sa=N" TargetMode="External"/><Relationship Id="rId10" Type="http://schemas.openxmlformats.org/officeDocument/2006/relationships/image" Target="../media/image10.jpeg"/><Relationship Id="rId11" Type="http://schemas.openxmlformats.org/officeDocument/2006/relationships/hyperlink" Target="http://images.google.com/imgres?imgurl=http://www.ablecanopies.co.uk/images/entrance_canopy.jpg&amp;imgrefurl=http://www.ablecanopies.co.uk/entrance_canopies.html&amp;usg=__WZU3AfrjozbIREBhQm26tNSJBXs=&amp;h=350&amp;w=480&amp;sz=35&amp;hl=en&amp;start=71&amp;tbnid=9XVhN5WpM4ozYM:&amp;tbnh=94&amp;tbnw=129&amp;prev=/images?q=canopy&amp;start=60&amp;gbv=2&amp;ndsp=20&amp;hl=en&amp;sa=N" TargetMode="External"/><Relationship Id="rId12" Type="http://schemas.openxmlformats.org/officeDocument/2006/relationships/image" Target="../media/image11.jpeg"/><Relationship Id="rId13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" Target="slide91.xml"/><Relationship Id="rId2" Type="http://schemas.openxmlformats.org/officeDocument/2006/relationships/slide" Target="slide92.xml"/><Relationship Id="rId3" Type="http://schemas.openxmlformats.org/officeDocument/2006/relationships/slide" Target="slide93.xml"/><Relationship Id="rId4" Type="http://schemas.openxmlformats.org/officeDocument/2006/relationships/slide" Target="slide94.xml"/><Relationship Id="rId5" Type="http://schemas.openxmlformats.org/officeDocument/2006/relationships/slide" Target="slide95.xml"/><Relationship Id="rId6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" Target="slide90.xml"/><Relationship Id="rId2" Type="http://schemas.openxmlformats.org/officeDocument/2006/relationships/hyperlink" Target="http://images.google.com/imgres?imgurl=http://z.about.com/d/gonyc/1/0/w/B/turtle_pond.jpg&amp;imgrefurl=http://gonyc.about.com/od/photogalleries/ss/central_park_10.htm&amp;usg=__7qlLbbagzSnvG3LtHWRSiLYtH6g=&amp;h=480&amp;w=640&amp;sz=155&amp;hl=en&amp;start=10&amp;tbnid=vTLGq0prRhh26M:&amp;tbnh=103&amp;tbnw=137&amp;prev=/images?q=pond&amp;gbv=2&amp;hl=en" TargetMode="External"/><Relationship Id="rId3" Type="http://schemas.openxmlformats.org/officeDocument/2006/relationships/image" Target="../media/image12.jpeg"/><Relationship Id="rId4" Type="http://schemas.openxmlformats.org/officeDocument/2006/relationships/hyperlink" Target="http://images.google.com/imgres?imgurl=http://www.dinternursery.ca/PondMay.JPG&amp;imgrefurl=http://www.dinternursery.ca/PondProducts.htm&amp;usg=__64phXMoEI8FKpPg0c3g3tyzw0iA=&amp;h=412&amp;w=300&amp;sz=50&amp;hl=en&amp;start=14&amp;tbnid=M_M-if6DXLKuSM:&amp;tbnh=125&amp;tbnw=91&amp;prev=/images?q=pond&amp;gbv=2&amp;hl=en" TargetMode="External"/><Relationship Id="rId5" Type="http://schemas.openxmlformats.org/officeDocument/2006/relationships/image" Target="../media/image13.jpeg"/><Relationship Id="rId6" Type="http://schemas.openxmlformats.org/officeDocument/2006/relationships/hyperlink" Target="http://images.google.com/imgres?imgurl=http://www.freefoto.com/images/1212/05/1212_05_9---Walden-Pond--Massachusetts_web.jpg&amp;imgrefurl=http://www.freefoto.com/preview/1212-05-9?ffid=1212-05-9&amp;usg=__zXJWoOLDqqTAQOPHWBtYwvgaP9M=&amp;h=400&amp;w=600&amp;sz=142&amp;hl=en&amp;start=17&amp;tbnid=cedurorsBWORxM:&amp;tbnh=90&amp;tbnw=135&amp;prev=/images?q=pond&amp;gbv=2&amp;hl=en" TargetMode="External"/><Relationship Id="rId7" Type="http://schemas.openxmlformats.org/officeDocument/2006/relationships/image" Target="../media/image14.jpeg"/><Relationship Id="rId8" Type="http://schemas.openxmlformats.org/officeDocument/2006/relationships/hyperlink" Target="http://images.google.com/imgres?imgurl=http://www.doghouseproperties.com/uploads/20071004131121984.catfish%2520pond.JPG&amp;imgrefurl=http://www.doghouseproperties.com/propertydetail/00000175&amp;usg=__A05rteB6qha3cdd4XVBRmAUYpbI=&amp;h=537&amp;w=716&amp;sz=184&amp;hl=en&amp;start=3&amp;tbnid=9Pu7mxQXIC56WM:&amp;tbnh=105&amp;tbnw=140&amp;prev=/images?q=catfishpond&amp;gbv=2&amp;hl=en" TargetMode="External"/><Relationship Id="rId9" Type="http://schemas.openxmlformats.org/officeDocument/2006/relationships/image" Target="../media/image15.jpeg"/><Relationship Id="rId10" Type="http://schemas.openxmlformats.org/officeDocument/2006/relationships/hyperlink" Target="http://images.google.com/imgres?imgurl=http://www.floridata.com/wallpaper/jpg/crossvine800.jpg&amp;imgrefurl=http://www.floridata.com/tracks/GardenersJournal03/Journal03_03.cfm&amp;usg=__eo4bRMNDkG8OvnSB7uNC9-i5X28=&amp;h=600&amp;w=800&amp;sz=131&amp;hl=en&amp;start=35&amp;tbnid=WHJ9zU__dfIesM:&amp;tbnh=107&amp;tbnw=143&amp;prev=/images?q=catfishpond&amp;start=20&amp;gbv=2&amp;ndsp=20&amp;hl=en&amp;sa=N" TargetMode="External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" Target="slide90.xml"/><Relationship Id="rId2" Type="http://schemas.openxmlformats.org/officeDocument/2006/relationships/hyperlink" Target="http://images.google.com/imgres?imgurl=http://waddell.ci.manchester.ct.us/nature-center/images/insects/1999us_insects.jpg&amp;imgrefurl=http://waddell.ci.manchester.ct.us/nature-center/leaflitter-and-pondlife.html&amp;usg=__mxG7JJpwMmHSDDCA_znHv_rMLsE=&amp;h=533&amp;w=500&amp;sz=197&amp;hl=en&amp;start=12&amp;tbnid=Hk-NkJaPvwe7VM:&amp;tbnh=132&amp;tbnw=124&amp;prev=/images?q=insects&amp;gbv=2&amp;ndsp=20&amp;hl=en&amp;sa=N" TargetMode="External"/><Relationship Id="rId3" Type="http://schemas.openxmlformats.org/officeDocument/2006/relationships/image" Target="../media/image17.jpeg"/><Relationship Id="rId4" Type="http://schemas.openxmlformats.org/officeDocument/2006/relationships/hyperlink" Target="http://images.google.com/imgres?imgurl=http://visual.merriam-webster.com/images/animal-kingdom/insects-arachnids/examples-insects_4.jpg&amp;imgrefurl=http://visual.merriam-webster.com/animal-kingdom/insects-arachnids/examples-insects_4.php&amp;usg=__agCQodVxbNqdgR7P3PpCRWrOa98=&amp;h=384&amp;w=550&amp;sz=75&amp;hl=en&amp;start=4&amp;tbnid=sjSbObc2Jhq5IM:&amp;tbnh=93&amp;tbnw=133&amp;prev=/images?q=insects&amp;gbv=2&amp;ndsp=20&amp;hl=en&amp;sa=N" TargetMode="External"/><Relationship Id="rId5" Type="http://schemas.openxmlformats.org/officeDocument/2006/relationships/image" Target="../media/image18.jpeg"/><Relationship Id="rId6" Type="http://schemas.openxmlformats.org/officeDocument/2006/relationships/hyperlink" Target="http://images.google.com/imgres?imgurl=http://www.bestoday.com.au/billylids/images/insects.jpg&amp;imgrefurl=http://www.bestoday.com.au/billylids/archives/000486living_creatures.php&amp;usg=__Sm7qYRFk-Uvd_765dSsaouuhupE=&amp;h=287&amp;w=421&amp;sz=53&amp;hl=en&amp;start=5&amp;tbnid=LIImzpKn7at0QM:&amp;tbnh=85&amp;tbnw=125&amp;prev=/images?q=insects&amp;gbv=2&amp;ndsp=20&amp;hl=en&amp;sa=N" TargetMode="External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" Target="slide90.xml"/><Relationship Id="rId2" Type="http://schemas.openxmlformats.org/officeDocument/2006/relationships/hyperlink" Target="http://images.google.com/imgres?imgurl=http://www.virtualmedicalcentre.com/uploads/VMC/DiseaseImages/767_skin_section.jpg&amp;imgrefurl=http://www.virtualmedicalcentre.com/anatomy.asp?sid=2&amp;usg=__H_7pmm4SxG34Is303qf13XwVeTk=&amp;h=505&amp;w=550&amp;sz=46&amp;hl=en&amp;start=64&amp;tbnid=knyIH4wRs4sk-M:&amp;tbnh=122&amp;tbnw=133&amp;prev=/images?q=skin&amp;start=60&amp;gbv=2&amp;ndsp=20&amp;hl=en&amp;sa=N" TargetMode="External"/><Relationship Id="rId3" Type="http://schemas.openxmlformats.org/officeDocument/2006/relationships/image" Target="../media/image20.jpeg"/><Relationship Id="rId4" Type="http://schemas.openxmlformats.org/officeDocument/2006/relationships/hyperlink" Target="http://images.google.com/imgres?imgurl=http://www.infovisual.info/03/photo/skin.jpg&amp;imgrefurl=http://www.infovisual.info/03/photo/skin.html&amp;usg=__iRobdkixoOGf0EVrL2tq4eKYQWU=&amp;h=768&amp;w=768&amp;sz=96&amp;hl=en&amp;start=81&amp;tbnid=afZqWiB6uEGalM:&amp;tbnh=142&amp;tbnw=142&amp;prev=/images?q=skin&amp;start=80&amp;gbv=2&amp;ndsp=20&amp;hl=en&amp;sa=N" TargetMode="External"/><Relationship Id="rId5" Type="http://schemas.openxmlformats.org/officeDocument/2006/relationships/image" Target="../media/image21.jpeg"/><Relationship Id="rId6" Type="http://schemas.openxmlformats.org/officeDocument/2006/relationships/hyperlink" Target="http://images.google.com/imgres?imgurl=http://www.dermaderma.com/wp-content/uploads/2007/11/personal-skin-care.jpg&amp;imgrefurl=http://www.entertainmentandstyle-gossip.com/&amp;usg=__-toWeUpno8v7TUrRfHntmOE2210=&amp;h=375&amp;w=250&amp;sz=15&amp;hl=en&amp;start=116&amp;tbnid=2QsFCD31R3CnhM:&amp;tbnh=122&amp;tbnw=81&amp;prev=/images?q=skin&amp;start=100&amp;gbv=2&amp;ndsp=20&amp;hl=en&amp;sa=N" TargetMode="External"/><Relationship Id="rId7" Type="http://schemas.openxmlformats.org/officeDocument/2006/relationships/image" Target="../media/image22.jpeg"/><Relationship Id="rId8" Type="http://schemas.openxmlformats.org/officeDocument/2006/relationships/hyperlink" Target="http://images.google.com/imgres?imgurl=http://biology.ucf.edu/~logiudice/zoo3713/Files/image152.gif&amp;imgrefurl=http://biology.ucf.edu/~logiudice/zoo3713/ZOO%25203713%2520Overheads.htm&amp;usg=__c_3KN1cKS4LahOoikM73805RfzY=&amp;h=157&amp;w=263&amp;sz=19&amp;hl=en&amp;start=13&amp;tbnid=Pn0d5o1bK8uECM:&amp;tbnh=67&amp;tbnw=112&amp;prev=/images?q=frog+skin&amp;gbv=2&amp;hl=en" TargetMode="External"/><Relationship Id="rId9" Type="http://schemas.openxmlformats.org/officeDocument/2006/relationships/image" Target="../media/image23.jpeg"/><Relationship Id="rId10" Type="http://schemas.openxmlformats.org/officeDocument/2006/relationships/hyperlink" Target="http://images.google.com/imgres?imgurl=http://farm1.static.flickr.com/187/435311607_5e2a2b1809.jpg?v=0&amp;imgrefurl=http://flickr.com/photos/98474349@N00/435311607&amp;usg=__3QvsuFdU-SwsaufM5pVa49phf0s=&amp;h=361&amp;w=500&amp;sz=128&amp;hl=en&amp;start=20&amp;tbnid=xMXPME7qUIsUhM:&amp;tbnh=94&amp;tbnw=130&amp;prev=/images?q=frog+skin&amp;gbv=2&amp;hl=en" TargetMode="External"/><Relationship Id="rId11" Type="http://schemas.openxmlformats.org/officeDocument/2006/relationships/image" Target="../media/image24.jpeg"/><Relationship Id="rId12" Type="http://schemas.openxmlformats.org/officeDocument/2006/relationships/hyperlink" Target="http://images.google.com/imgres?imgurl=http://i.pbase.com/v3/06/601206/1/50259919.Frogskin.jpg&amp;imgrefurl=http://www.pbase.com/nicmalone/image/50259919&amp;usg=__48FNPXRAh5rZWlRLNA85Qm7Q-sc=&amp;h=600&amp;w=400&amp;sz=192&amp;hl=en&amp;start=35&amp;tbnid=Bg_ilaW6K4FrsM:&amp;tbnh=135&amp;tbnw=90&amp;prev=/images?q=frog+skin&amp;start=20&amp;gbv=2&amp;ndsp=20&amp;hl=en&amp;sa=N" TargetMode="External"/><Relationship Id="rId13" Type="http://schemas.openxmlformats.org/officeDocument/2006/relationships/image" Target="../media/image25.jpeg"/><Relationship Id="rId14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" Target="slide90.xml"/><Relationship Id="rId2" Type="http://schemas.openxmlformats.org/officeDocument/2006/relationships/hyperlink" Target="http://images.google.com/imgres?imgurl=http://www.thematzats.com/snakes/images/shed.jpg&amp;imgrefurl=http://www.thematzats.com/snakes/life4.htm&amp;usg=__ZfjZmO3HkaXIUIJKE7d4jEY_NYk=&amp;h=476&amp;w=476&amp;sz=29&amp;hl=en&amp;start=4&amp;tbnid=CphfW_qumt80sM:&amp;tbnh=129&amp;tbnw=129&amp;prev=/images?q=shed+skin&amp;gbv=2&amp;hl=en" TargetMode="External"/><Relationship Id="rId3" Type="http://schemas.openxmlformats.org/officeDocument/2006/relationships/image" Target="../media/image26.jpeg"/><Relationship Id="rId4" Type="http://schemas.openxmlformats.org/officeDocument/2006/relationships/hyperlink" Target="http://images.google.com/imgres?imgurl=http://www.amisk.ca/MonarchProject/ShedSkin_01.jpg&amp;imgrefurl=http://www.amisk.ca/MonarchProject/index.html&amp;usg=__kbU9Qw-pS4O8yCyhn9UsJOrOJpM=&amp;h=307&amp;w=470&amp;sz=23&amp;hl=en&amp;start=13&amp;tbnid=bme-RwkmOD3gOM:&amp;tbnh=84&amp;tbnw=129&amp;prev=/images?q=shed+skin&amp;gbv=2&amp;hl=en" TargetMode="External"/><Relationship Id="rId5" Type="http://schemas.openxmlformats.org/officeDocument/2006/relationships/image" Target="../media/image27.jpeg"/><Relationship Id="rId6" Type="http://schemas.openxmlformats.org/officeDocument/2006/relationships/hyperlink" Target="http://images.google.com/imgres?imgurl=http://www.snakesandfrogs.com/scra/snakes/images/ekingshed.jpg&amp;imgrefurl=http://www.snakesandfrogs.com/scra/snakes/chain.htm&amp;usg=__UeoOjIuuYoYoAIGJVfLWPCYF5S0=&amp;h=737&amp;w=1200&amp;sz=138&amp;hl=en&amp;start=20&amp;tbnid=OOiZ8O8_l6vYjM:&amp;tbnh=92&amp;tbnw=150&amp;prev=/images?q=shed+skin&amp;gbv=2&amp;hl=en" TargetMode="External"/><Relationship Id="rId7" Type="http://schemas.openxmlformats.org/officeDocument/2006/relationships/image" Target="../media/image28.jpeg"/><Relationship Id="rId8" Type="http://schemas.openxmlformats.org/officeDocument/2006/relationships/hyperlink" Target="http://images.google.com/imgres?imgurl=http://aqualandpetsplus.com/Lizard841.jpg&amp;imgrefurl=http://aqualandpetsplus.com/Lizards,%2520Misc%2520Vii.htm&amp;usg=__9OEtqhf10-kewpMxXkQ_5cW5qKg=&amp;h=317&amp;w=478&amp;sz=33&amp;hl=en&amp;start=32&amp;tbnid=-fSe5XXzvICvYM:&amp;tbnh=86&amp;tbnw=129&amp;prev=/images?q=shed+skin&amp;start=20&amp;gbv=2&amp;ndsp=20&amp;hl=en&amp;sa=N" TargetMode="External"/><Relationship Id="rId9" Type="http://schemas.openxmlformats.org/officeDocument/2006/relationships/image" Target="../media/image29.jpeg"/><Relationship Id="rId10" Type="http://schemas.openxmlformats.org/officeDocument/2006/relationships/hyperlink" Target="http://images.google.com/imgres?imgurl=http://farm3.static.flickr.com/2093/2127009252_a737dc72ab.jpg?v=1198248575&amp;imgrefurl=http://flickr.com/photos/choowiewookie/2127009252/&amp;usg=__i3m4xPisF8ibgl3fGjpSmq1r49o=&amp;h=370&amp;w=500&amp;sz=89&amp;hl=en&amp;start=35&amp;tbnid=dc325bMZnRysPM:&amp;tbnh=96&amp;tbnw=130&amp;prev=/images?q=shed+skin&amp;start=20&amp;gbv=2&amp;ndsp=20&amp;hl=en&amp;sa=N" TargetMode="External"/><Relationship Id="rId11" Type="http://schemas.openxmlformats.org/officeDocument/2006/relationships/image" Target="../media/image30.jpeg"/><Relationship Id="rId12" Type="http://schemas.openxmlformats.org/officeDocument/2006/relationships/hyperlink" Target="http://images.google.com/imgres?imgurl=http://www.saltthesandbox.org/cicada_hunt/LiveNymph0702.jpg&amp;imgrefurl=http://www.saltthesandbox.org/cicada_hunt/PeriodicalHunt2007.htm&amp;usg=__sq3GrQRre2dOkX2BX2Ri3wnZ0JU=&amp;h=384&amp;w=440&amp;sz=38&amp;hl=en&amp;start=121&amp;tbnid=T4wXuFE480z7QM:&amp;tbnh=111&amp;tbnw=127&amp;prev=/images?q=shed+skin&amp;start=120&amp;gbv=2&amp;ndsp=20&amp;hl=en&amp;sa=N" TargetMode="External"/><Relationship Id="rId13" Type="http://schemas.openxmlformats.org/officeDocument/2006/relationships/image" Target="../media/image31.jpeg"/><Relationship Id="rId14" Type="http://schemas.openxmlformats.org/officeDocument/2006/relationships/hyperlink" Target="http://members.aol.com/chris420529/shedding.JPG" TargetMode="External"/><Relationship Id="rId15" Type="http://schemas.openxmlformats.org/officeDocument/2006/relationships/image" Target="../media/image32.jpeg"/><Relationship Id="rId16" Type="http://schemas.openxmlformats.org/officeDocument/2006/relationships/hyperlink" Target="http://images.google.com/imgres?imgurl=http://dj003.k12.sd.us/images/frog%2520dissection/frog_life_cycle.gif&amp;imgrefurl=http://dj003.k12.sd.us/SCHOOL%2520NOTES/chapter_12.htm&amp;usg=__kokUlz21KozT6aRtIvRnrWG0ttM=&amp;h=301&amp;w=380&amp;sz=13&amp;hl=en&amp;start=7&amp;tbnid=FdSRZez6kdz4lM:&amp;tbnh=97&amp;tbnw=123&amp;prev=/images?q=tadpole+shedding+skin&amp;gbv=2&amp;hl=en" TargetMode="External"/><Relationship Id="rId17" Type="http://schemas.openxmlformats.org/officeDocument/2006/relationships/image" Target="../media/image33.jpeg"/><Relationship Id="rId18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" Target="slide96.xml"/><Relationship Id="rId2" Type="http://schemas.openxmlformats.org/officeDocument/2006/relationships/slide" Target="slide97.xml"/><Relationship Id="rId3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" Target="slide95.xml"/><Relationship Id="rId2" Type="http://schemas.openxmlformats.org/officeDocument/2006/relationships/hyperlink" Target="http://images.google.com/imgres?imgurl=http://www.tasi.ac.uk/images/flickr-frogs.jpg&amp;imgrefurl=http://www.tasi.ac.uk/advice/using/flickr-organising.html&amp;usg=__mcdpgTaVIaEMwWq5yhvFOt8AXW4=&amp;h=359&amp;w=478&amp;sz=71&amp;hl=en&amp;start=10&amp;tbnid=RMzMUmlguJ9YYM:&amp;tbnh=97&amp;tbnw=129&amp;prev=/images?q=frog+spawning&amp;gbv=2&amp;hl=en" TargetMode="External"/><Relationship Id="rId3" Type="http://schemas.openxmlformats.org/officeDocument/2006/relationships/image" Target="../media/image34.jpeg"/><Relationship Id="rId4" Type="http://schemas.openxmlformats.org/officeDocument/2006/relationships/hyperlink" Target="http://images.google.com/imgres?imgurl=http://pro.corbis.com/images/EC001028.jpg?size=67&amp;uid=%257BBB2E7830-EE43-4ECC-B881-F285A796E0FB%257D&amp;imgrefurl=http://pro.corbis.com/search/Enlargement.aspx?CID=isg&amp;mediauid=%257BBB2E7830-EE43-4ECC-B881-F285A796E0FB%257D&amp;usg=__Cw_XoSdpXAzllNgwD6BWSNm_-Xc=&amp;h=433&amp;w=640&amp;sz=91&amp;hl=en&amp;start=13&amp;tbnid=iOSS4CjVgXSytM:&amp;tbnh=93&amp;tbnw=137&amp;prev=/images?q=frog+spawning&amp;gbv=2&amp;hl=en" TargetMode="External"/><Relationship Id="rId5" Type="http://schemas.openxmlformats.org/officeDocument/2006/relationships/image" Target="../media/image35.jpeg"/><Relationship Id="rId6" Type="http://schemas.openxmlformats.org/officeDocument/2006/relationships/hyperlink" Target="http://images.google.com/imgres?imgurl=http://www.wherelightmeetsdark.com/images/pagemaster/sandpaper_2.jpg&amp;imgrefurl=http://www.wherelightmeetsdark.com/index.php?module=pagemaster&amp;PAGE_id=60&amp;PAGE_user_op=view_page&amp;usg=__4kYXa2V0meu2j9gu8OpNOvLQXvI=&amp;h=765&amp;w=532&amp;sz=48&amp;hl=en&amp;start=16&amp;tbnid=yADSM415U_TFvM:&amp;tbnh=142&amp;tbnw=99&amp;prev=/images?q=frog+spawning&amp;gbv=2&amp;hl=en" TargetMode="External"/><Relationship Id="rId7" Type="http://schemas.openxmlformats.org/officeDocument/2006/relationships/image" Target="../media/image36.jpeg"/><Relationship Id="rId8" Type="http://schemas.openxmlformats.org/officeDocument/2006/relationships/hyperlink" Target="http://images.google.com/imgres?imgurl=http://bp3.blogger.com/_aiPEj8evWN8/R9xaOTjw0BI/AAAAAAAAAvU/6PWV-E4E_HI/s400/frog+spawn.jpg&amp;imgrefurl=http://flourishlife.blogspot.com/2008/03/frog-spawn.html&amp;usg=__c17GlsPoklxHNCwLqRPNNWv37LA=&amp;h=304&amp;w=400&amp;sz=32&amp;hl=en&amp;start=21&amp;tbnid=dvDI5U2IRxa1iM:&amp;tbnh=94&amp;tbnw=124&amp;prev=/images?q=frog+spawning&amp;start=20&amp;gbv=2&amp;ndsp=20&amp;hl=en&amp;sa=N" TargetMode="External"/><Relationship Id="rId9" Type="http://schemas.openxmlformats.org/officeDocument/2006/relationships/image" Target="../media/image37.jpeg"/><Relationship Id="rId10" Type="http://schemas.openxmlformats.org/officeDocument/2006/relationships/hyperlink" Target="http://images.google.com/imgres?imgurl=http://www.new-forest.tv/Frog%2520Spawn%25202007%2520002.jpg&amp;imgrefurl=http://www.new-forest.tv/February_-_The_Frogs_Are_Taking_Over!.html&amp;usg=__HO5qXQe1LrOktvx4bkrXeOIcMu0=&amp;h=960&amp;w=1280&amp;sz=321&amp;hl=en&amp;start=25&amp;tbnid=IyaDtwm854VPqM:&amp;tbnh=113&amp;tbnw=150&amp;prev=/images?q=frog+spawning&amp;start=20&amp;gbv=2&amp;ndsp=20&amp;hl=en&amp;sa=N" TargetMode="External"/><Relationship Id="rId11" Type="http://schemas.openxmlformats.org/officeDocument/2006/relationships/image" Target="../media/image38.jpeg"/><Relationship Id="rId12" Type="http://schemas.openxmlformats.org/officeDocument/2006/relationships/hyperlink" Target="http://images.google.com/imgres?imgurl=http://bp1.blogger.com/_sEANHwQJN-4/R_QcSIertyI/AAAAAAAABsM/K2_ileCd3E0/s400/Frog+spawn.jpg&amp;imgrefurl=http://merseawildlife.blogspot.com/2008/04/spawn-bucket.html&amp;usg=__EXaE8DmLCqXE5Y3colMzL0tZUrA=&amp;h=300&amp;w=400&amp;sz=32&amp;hl=en&amp;start=30&amp;tbnid=DOGR-AMU5fR6-M:&amp;tbnh=93&amp;tbnw=124&amp;prev=/images?q=frog+spawning&amp;start=20&amp;gbv=2&amp;ndsp=20&amp;hl=en&amp;sa=N" TargetMode="External"/><Relationship Id="rId13" Type="http://schemas.openxmlformats.org/officeDocument/2006/relationships/image" Target="../media/image39.jpeg"/><Relationship Id="rId14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38512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7"/>
                </a:solidFill>
                <a:latin typeface="Arial Black"/>
              </a:rPr>
              <a:t>How do animals change </a:t>
            </a:r>
            <a:br>
              <a:rPr sz="3600"/>
            </a:br>
            <a:r>
              <a:rPr b="0" lang="en-US" sz="3600" spc="-1" strike="noStrike">
                <a:solidFill>
                  <a:srgbClr val="ffffb7"/>
                </a:solidFill>
                <a:latin typeface="Arial Black"/>
              </a:rPr>
              <a:t>as they grow?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24" descr="Frogs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828800" y="2003400"/>
            <a:ext cx="5562720" cy="454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oday we will learn about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azing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pthongs: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ou, 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e and Contr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phic Organiz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jectives that Comp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djectives that Compa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 adjective describes a person, place, animal, or th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dd –er to an adjective to compare two persons, places, or thing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dd –est to compare three or more persons, places, or thing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rap Up Your Day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cabulary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phic organiz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’s Talk About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morrow we will learn more about how frogs changes as they get old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Frogs</a:t>
            </a: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Tuesday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1447920" y="236232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te about your favorite animal and tell why it's special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63784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Frogs</a:t>
            </a: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Wednesday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1447920" y="2286000"/>
          <a:ext cx="6095880" cy="41878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19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day we will read more about Turtle.  Her life is not very peaceful.  She has to be careful.  Being a powerful swimmer helps!  What else can turtles do well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63784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Frogs</a:t>
            </a: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Wednesday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1447920" y="2286000"/>
          <a:ext cx="6095880" cy="41878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19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day we will read more about Turtle.  Her life is not very </a:t>
                      </a: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peaceful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She has to be </a:t>
                      </a: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careful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Being a </a:t>
                      </a: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powerful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wimmer helps!  What else can turtles do well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oday you will learn about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azing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wels oo, 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phthongs ou, 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ffix –f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ropriate phra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jectives that comp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99072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Verdana"/>
              <a:ea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676520" y="2895480"/>
          <a:ext cx="6095880" cy="1737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3851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b7"/>
                </a:solidFill>
                <a:latin typeface="Verdana"/>
                <a:ea typeface="Arial"/>
              </a:rPr>
              <a:t>forage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Verdana"/>
                <a:ea typeface="Arial"/>
              </a:rPr>
              <a:t>for - age</a:t>
            </a: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Verdana"/>
                <a:ea typeface="Arial"/>
              </a:rPr>
              <a:t>Forage</a:t>
            </a: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 means to go from place to place looking for something, usually fo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Bears </a:t>
            </a:r>
            <a:r>
              <a:rPr b="1" lang="en-US" sz="3200" spc="-1" strike="noStrike">
                <a:solidFill>
                  <a:srgbClr val="990000"/>
                </a:solidFill>
                <a:latin typeface="Verdana"/>
                <a:ea typeface="Arial"/>
              </a:rPr>
              <a:t>forage</a:t>
            </a: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 in the woods looking for berr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Rabbits </a:t>
            </a:r>
            <a:r>
              <a:rPr b="1" lang="en-US" sz="3200" spc="-1" strike="noStrike">
                <a:solidFill>
                  <a:srgbClr val="990000"/>
                </a:solidFill>
                <a:latin typeface="Verdana"/>
                <a:ea typeface="Arial"/>
              </a:rPr>
              <a:t>forage</a:t>
            </a: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 in the vegetable gard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3851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b7"/>
                </a:solidFill>
                <a:latin typeface="Verdana"/>
                <a:ea typeface="Arial"/>
              </a:rPr>
              <a:t>forepaw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Verdana"/>
                <a:ea typeface="Arial"/>
              </a:rPr>
              <a:t>fore – paw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A </a:t>
            </a:r>
            <a:r>
              <a:rPr b="1" lang="en-US" sz="3200" spc="-1" strike="noStrike">
                <a:solidFill>
                  <a:srgbClr val="990000"/>
                </a:solidFill>
                <a:latin typeface="Verdana"/>
                <a:ea typeface="Arial"/>
              </a:rPr>
              <a:t>forepaw</a:t>
            </a: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 is one of the front feet of an animal with four pa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The dog scratched at the door with its </a:t>
            </a:r>
            <a:r>
              <a:rPr b="1" lang="en-US" sz="3200" spc="-1" strike="noStrike">
                <a:solidFill>
                  <a:srgbClr val="990000"/>
                </a:solidFill>
                <a:latin typeface="Verdana"/>
                <a:ea typeface="Arial"/>
              </a:rPr>
              <a:t>forepaw</a:t>
            </a: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The cat played with a ball of yarn between its </a:t>
            </a:r>
            <a:r>
              <a:rPr b="1" lang="en-US" sz="3200" spc="-1" strike="noStrike">
                <a:solidFill>
                  <a:srgbClr val="990000"/>
                </a:solidFill>
                <a:latin typeface="Verdana"/>
                <a:ea typeface="Arial"/>
              </a:rPr>
              <a:t>forepaws</a:t>
            </a: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"/>
                <a:ea typeface="Arial"/>
              </a:rPr>
              <a:t>forepaw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6" name="Picture 7" descr="Alligator_Left_Forepa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190512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9" descr="171846585_eddff7024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33920" y="1905120"/>
            <a:ext cx="2209680" cy="19206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1" descr="koala-info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554880" y="1905120"/>
            <a:ext cx="2255760" cy="25905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3" descr="polarbearfacing"/>
          <p:cNvPicPr/>
          <p:nvPr/>
        </p:nvPicPr>
        <p:blipFill>
          <a:blip r:embed="rId7"/>
          <a:stretch/>
        </p:blipFill>
        <p:spPr>
          <a:xfrm>
            <a:off x="838080" y="3941640"/>
            <a:ext cx="2514600" cy="21924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5" descr="Polydactyl-bengal-snowshoe"/>
          <p:cNvPicPr/>
          <p:nvPr/>
        </p:nvPicPr>
        <p:blipFill>
          <a:blip r:embed="rId8"/>
          <a:stretch/>
        </p:blipFill>
        <p:spPr>
          <a:xfrm>
            <a:off x="3733920" y="4038480"/>
            <a:ext cx="2666880" cy="20908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7" descr="08987"/>
          <p:cNvPicPr/>
          <p:nvPr/>
        </p:nvPicPr>
        <p:blipFill>
          <a:blip r:embed="rId9"/>
          <a:stretch/>
        </p:blipFill>
        <p:spPr>
          <a:xfrm>
            <a:off x="7010280" y="4606920"/>
            <a:ext cx="184788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99072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Verdana"/>
              <a:ea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676520" y="2895480"/>
          <a:ext cx="6095880" cy="1737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Vowels oo, u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ot   -    p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can read these words because you know that the vowels oo and u can stand for the sound /u/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Vowels oo, u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71600" y="1904760"/>
            <a:ext cx="3394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u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u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us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s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oo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o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o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Vocabulary Words</a:t>
            </a:r>
            <a:br>
              <a:rPr sz="4000"/>
            </a:br>
            <a:r>
              <a:rPr b="0" lang="en-US" sz="2000" spc="-1" strike="noStrike">
                <a:solidFill>
                  <a:srgbClr val="99ff66"/>
                </a:solidFill>
                <a:latin typeface="Arial Black"/>
              </a:rPr>
              <a:t>crawls, insects, pond, powerful, shed, skin, wonderful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have many insects in your yard, is it a good idea to keep frogs in your yard to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a rainbow that appears after a rainstorm wonderful to se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 a frog that has shed its tadpole skin and lips still have the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Vocabulary Words</a:t>
            </a:r>
            <a:br>
              <a:rPr sz="4000"/>
            </a:br>
            <a:r>
              <a:rPr b="0" lang="en-US" sz="2000" spc="-1" strike="noStrike">
                <a:solidFill>
                  <a:srgbClr val="99ff66"/>
                </a:solidFill>
                <a:latin typeface="Arial Black"/>
              </a:rPr>
              <a:t>crawls, insects, pond, powerful, shed, skin, wonderful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you touch a frog’s ski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a pond very dr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an animal crawls does it leap quickly through the ai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 someone with powerful arms have problems lifting a heavy rock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Frogs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380880" y="1295280"/>
          <a:ext cx="3200400" cy="5230800"/>
        </p:xfrm>
        <a:graphic>
          <a:graphicData uri="http://schemas.openxmlformats.org/drawingml/2006/table">
            <a:tbl>
              <a:tblPr/>
              <a:tblGrid>
                <a:gridCol w="3200400"/>
              </a:tblGrid>
              <a:tr h="523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Word Family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m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ex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o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ien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n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3" name=""/>
          <p:cNvGraphicFramePr/>
          <p:nvPr/>
        </p:nvGraphicFramePr>
        <p:xfrm>
          <a:off x="3886200" y="1295280"/>
          <a:ext cx="4876920" cy="5261040"/>
        </p:xfrm>
        <a:graphic>
          <a:graphicData uri="http://schemas.openxmlformats.org/drawingml/2006/table">
            <a:tbl>
              <a:tblPr/>
              <a:tblGrid>
                <a:gridCol w="4876920"/>
              </a:tblGrid>
              <a:tr h="529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ound        crow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out          south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wn          mous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und         downtow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ower         </a:t>
                      </a: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mountai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l           </a:t>
                      </a: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boundar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ound       </a:t>
                      </a: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drows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un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uffix - fu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uffix –ful means “full of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mful – full of ha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lpful – full of hel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rful – full of t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werful – full of po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nderful – full of wo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6868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aily Fix-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e frog jumped on the grun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Arial"/>
              </a:rPr>
              <a:t>The frog jumped on the ground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did max water the flouer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Arial"/>
              </a:rPr>
              <a:t>Did Max water the flowers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djectives that Compa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 adjective describes a person, place, animal, or th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dd –er to an adjective to compare two persons, places, or thing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dd –est to compare three or more persons, places, or thing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Adjectives that Compare</a:t>
            </a:r>
            <a:br>
              <a:rPr sz="4000"/>
            </a:b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Add –er or –est to these adjectives that compare to complete these sentences.</a:t>
            </a:r>
            <a:br>
              <a:rPr sz="2000"/>
            </a:b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Jumpy the Frog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s 3 inches lo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Rib-It the Frog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s 5 inches lo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Spotty the Frog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s 4 inches lo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ib-It jumps the ___distance of all three frog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Adjectives that Compare</a:t>
            </a:r>
            <a:br>
              <a:rPr sz="4000"/>
            </a:b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Add –er or –est to these adjectives that compare to complete these sentences.</a:t>
            </a:r>
            <a:br>
              <a:rPr sz="2000"/>
            </a:b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Jumpy the Frog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s 3 inches lo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Rib-It the Frog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s 5 inches lo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Spotty the Frog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s 4 inches lo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ib-It jumps the </a:t>
            </a: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longes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distance of all three frog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3851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b7"/>
                </a:solidFill>
                <a:latin typeface="Verdana"/>
                <a:ea typeface="Arial"/>
              </a:rPr>
              <a:t>appearance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Verdana"/>
                <a:ea typeface="Arial"/>
              </a:rPr>
              <a:t>ap – pear - ance</a:t>
            </a: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An </a:t>
            </a:r>
            <a:r>
              <a:rPr b="1" lang="en-US" sz="3200" spc="-1" strike="noStrike">
                <a:solidFill>
                  <a:srgbClr val="990000"/>
                </a:solidFill>
                <a:latin typeface="Verdana"/>
                <a:ea typeface="Arial"/>
              </a:rPr>
              <a:t>appearance</a:t>
            </a: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 is the way a person, an animal, or a thing look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An </a:t>
            </a:r>
            <a:r>
              <a:rPr b="1" lang="en-US" sz="3200" spc="-1" strike="noStrike">
                <a:solidFill>
                  <a:srgbClr val="990000"/>
                </a:solidFill>
                <a:latin typeface="Verdana"/>
                <a:ea typeface="Arial"/>
              </a:rPr>
              <a:t>appearance</a:t>
            </a: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 can also be the way something seems to look or to b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The child’s </a:t>
            </a:r>
            <a:r>
              <a:rPr b="1" lang="en-US" sz="3200" spc="-1" strike="noStrike">
                <a:solidFill>
                  <a:srgbClr val="990000"/>
                </a:solidFill>
                <a:latin typeface="Verdana"/>
                <a:ea typeface="Arial"/>
              </a:rPr>
              <a:t>appearance</a:t>
            </a: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 was clean and nea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The performer gave the </a:t>
            </a:r>
            <a:r>
              <a:rPr b="1" lang="en-US" sz="3200" spc="-1" strike="noStrike">
                <a:solidFill>
                  <a:srgbClr val="990000"/>
                </a:solidFill>
                <a:latin typeface="Verdana"/>
                <a:ea typeface="Arial"/>
              </a:rPr>
              <a:t>appearance</a:t>
            </a: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 that juggling was eas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Adjectives that Compare</a:t>
            </a:r>
            <a:br>
              <a:rPr sz="4000"/>
            </a:b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Add –er or –est to these adjectives that compare to complete these sentences.</a:t>
            </a:r>
            <a:br>
              <a:rPr sz="2000"/>
            </a:b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Jumpy the Frog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s 3 inches lo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Rib-It the Frog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s 5 inches lo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Spotty the Frog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s 4 inches lo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ib-It jumps the </a:t>
            </a: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longes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distance of all three frog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distance Spotty can jump is ___ than the distance Jumpy can jump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Adjectives that Compare</a:t>
            </a:r>
            <a:br>
              <a:rPr sz="4000"/>
            </a:b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Add –er or –est to these adjectives that compare to complete these sentences.</a:t>
            </a:r>
            <a:br>
              <a:rPr sz="2000"/>
            </a:b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Jumpy the Frog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s 3 inches lo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Rib-It the Frog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s 5 inches lo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Spotty the Frog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s 4 inches lo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ib-It jumps the </a:t>
            </a: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longes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distance of all three frog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distance Spotty can jump is </a:t>
            </a: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long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than the distance Jumpy can jump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rap Up Your Day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e and contr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u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’s Talk About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morrow we will read about the life cycle of another kind of animal—a grasshopp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6374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Frogs</a:t>
            </a: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Wednesday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1371600" y="22860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te a diary entry describing the most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nderful day of their lives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Frogs</a:t>
            </a: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Thursday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1371600" y="2286000"/>
          <a:ext cx="6095880" cy="41878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19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day we will read about how grasshoppers grow and change.  Grasshoppers hide their eggs in the ground.  What animal would you like to find out about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Frogs</a:t>
            </a: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Thursday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1371600" y="2286000"/>
          <a:ext cx="6095880" cy="41878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19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day we will read </a:t>
                      </a: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about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how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grasshoppers grow and change.  Grasshoppers hide their eggs in the </a:t>
                      </a: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ground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What animal would you like to find </a:t>
                      </a: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out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about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oday we will learn about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pthongs: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ou, 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ropriate phra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jectives that comp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a demons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rog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914400" y="1219320"/>
          <a:ext cx="3352680" cy="5162400"/>
        </p:xfrm>
        <a:graphic>
          <a:graphicData uri="http://schemas.openxmlformats.org/drawingml/2006/table">
            <a:tbl>
              <a:tblPr/>
              <a:tblGrid>
                <a:gridCol w="3352680"/>
              </a:tblGrid>
              <a:tr h="519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Vocabulary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n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nderfu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werfu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ect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awl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ki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99" name=""/>
          <p:cNvGraphicFramePr/>
          <p:nvPr/>
        </p:nvGraphicFramePr>
        <p:xfrm>
          <a:off x="4876920" y="1219320"/>
          <a:ext cx="3558960" cy="5260680"/>
        </p:xfrm>
        <a:graphic>
          <a:graphicData uri="http://schemas.openxmlformats.org/drawingml/2006/table">
            <a:tbl>
              <a:tblPr/>
              <a:tblGrid>
                <a:gridCol w="3558960"/>
              </a:tblGrid>
              <a:tr h="529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Amaz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earanc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g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nsform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tles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rs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op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ag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epa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Frogs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2743200" y="1371600"/>
          <a:ext cx="3733920" cy="5230800"/>
        </p:xfrm>
        <a:graphic>
          <a:graphicData uri="http://schemas.openxmlformats.org/drawingml/2006/table">
            <a:tbl>
              <a:tblPr/>
              <a:tblGrid>
                <a:gridCol w="3733920"/>
              </a:tblGrid>
              <a:tr h="523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High Frequency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uil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ldn’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th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v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th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aigh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3851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entence Read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074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ther said, “Put the broken candle on the table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ther put the baby in the cradle by the trundle b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love to set a good example so I will donate this little be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build a fence around the tomato pla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ent straight to my room, but I couldn’t find my pap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next slid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3851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b7"/>
                </a:solidFill>
                <a:latin typeface="Verdana"/>
                <a:ea typeface="Arial"/>
              </a:rPr>
              <a:t>stage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Verdana"/>
                <a:ea typeface="Arial"/>
              </a:rPr>
              <a:t>st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A </a:t>
            </a:r>
            <a:r>
              <a:rPr b="1" lang="en-US" sz="3200" spc="-1" strike="noStrike">
                <a:solidFill>
                  <a:srgbClr val="990000"/>
                </a:solidFill>
                <a:latin typeface="Verdana"/>
                <a:ea typeface="Arial"/>
              </a:rPr>
              <a:t>stage</a:t>
            </a: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 is a step or time in a person’s or animal’s lif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Toddlers go through a </a:t>
            </a:r>
            <a:r>
              <a:rPr b="1" lang="en-US" sz="3200" spc="-1" strike="noStrike">
                <a:solidFill>
                  <a:srgbClr val="990000"/>
                </a:solidFill>
                <a:latin typeface="Verdana"/>
                <a:ea typeface="Arial"/>
              </a:rPr>
              <a:t>stage</a:t>
            </a: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 when they always say n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Puppies go through a </a:t>
            </a:r>
            <a:r>
              <a:rPr b="1" lang="en-US" sz="3200" spc="-1" strike="noStrike">
                <a:solidFill>
                  <a:srgbClr val="990000"/>
                </a:solidFill>
                <a:latin typeface="Verdana"/>
                <a:ea typeface="Arial"/>
              </a:rPr>
              <a:t>stage</a:t>
            </a: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 when they like to chew everyth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"/>
                <a:ea typeface="Arial"/>
              </a:rPr>
              <a:t>trundle be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1136160" y="21333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6" name="Picture 5" descr="ap-1001-2731-twin-bed-trundle-box"/>
          <p:cNvPicPr/>
          <p:nvPr/>
        </p:nvPicPr>
        <p:blipFill>
          <a:blip r:embed="rId1"/>
          <a:stretch/>
        </p:blipFill>
        <p:spPr>
          <a:xfrm>
            <a:off x="2286000" y="2209680"/>
            <a:ext cx="518148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Frogs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380880" y="1295280"/>
          <a:ext cx="3200400" cy="5230800"/>
        </p:xfrm>
        <a:graphic>
          <a:graphicData uri="http://schemas.openxmlformats.org/drawingml/2006/table">
            <a:tbl>
              <a:tblPr/>
              <a:tblGrid>
                <a:gridCol w="3200400"/>
              </a:tblGrid>
              <a:tr h="523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Word Family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m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ex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o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ien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n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9" name=""/>
          <p:cNvGraphicFramePr/>
          <p:nvPr/>
        </p:nvGraphicFramePr>
        <p:xfrm>
          <a:off x="3886200" y="1295280"/>
          <a:ext cx="4876920" cy="5261040"/>
        </p:xfrm>
        <a:graphic>
          <a:graphicData uri="http://schemas.openxmlformats.org/drawingml/2006/table">
            <a:tbl>
              <a:tblPr/>
              <a:tblGrid>
                <a:gridCol w="4876920"/>
              </a:tblGrid>
              <a:tr h="529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ound        crow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out          south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wn          mous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und         downtow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ower         </a:t>
                      </a: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mountai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l           </a:t>
                      </a: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boundar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ound       </a:t>
                      </a: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drows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un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From Egg to Egg</a:t>
            </a:r>
            <a:br>
              <a:rPr sz="5400"/>
            </a:b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ges 90-9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151920" y="-360"/>
            <a:ext cx="8991720" cy="70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aily Fix-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jed is tallest than lyn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Arial"/>
              </a:rPr>
              <a:t>Jed is taller than Lynn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e birds flue soth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Arial"/>
              </a:rPr>
              <a:t>The birds flew south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djectives that Compa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 adjective describes a person, place, animal, or th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dd –er to an adjective to compare two persons, places, or thing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dd –est to compare three or more persons, places, or thing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djectives that Compa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1143000" y="1905120"/>
          <a:ext cx="7162920" cy="3905280"/>
        </p:xfrm>
        <a:graphic>
          <a:graphicData uri="http://schemas.openxmlformats.org/drawingml/2006/table">
            <a:tbl>
              <a:tblPr/>
              <a:tblGrid>
                <a:gridCol w="2387520"/>
                <a:gridCol w="2387520"/>
                <a:gridCol w="2387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One th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Two thin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Three thin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s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ste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peaking &amp; Listening: Giving a Demonstra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peaker used both words and actions to show or explain to others how to do something in a demonstr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peaker often uses props to show viewers exactly what must be done in each step of the proc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peaker should carefully describe the order in which the steps must be comple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Giving a Demonstra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457200" y="1905120"/>
          <a:ext cx="8388360" cy="4147920"/>
        </p:xfrm>
        <a:graphic>
          <a:graphicData uri="http://schemas.openxmlformats.org/drawingml/2006/table">
            <a:tbl>
              <a:tblPr/>
              <a:tblGrid>
                <a:gridCol w="4194000"/>
                <a:gridCol w="4194360"/>
              </a:tblGrid>
              <a:tr h="80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Speak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Listen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4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prop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ke eye contact with the listener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eak in a logical sequence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Sit quiet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Face the speaker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Listen to what the speaker say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Note the order in which the steps should be completed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rap UP Your Day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ing connections:  text to 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’s Talk About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read a story about another animal that changes as it gets older.  Tomorrow we will learn more about the life cycle of anima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5" dur="indefinite" restart="never" nodeType="tmRoot">
          <p:childTnLst>
            <p:seq>
              <p:cTn id="1026" dur="indefinite" nodeType="mainSeq">
                <p:childTnLst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Frogs</a:t>
            </a: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Thursday 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1600200" y="24382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te about a child who changes appearance.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b7"/>
                </a:solidFill>
                <a:latin typeface="Arial"/>
                <a:ea typeface="Arial"/>
              </a:rPr>
              <a:t>stage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62120" y="1523520"/>
            <a:ext cx="80071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6" descr="common_bed_bug_lifecycl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1981080"/>
            <a:ext cx="3708360" cy="38102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tls-character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8320" y="2895480"/>
            <a:ext cx="415296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Frogs</a:t>
            </a: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Friday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426" name=""/>
          <p:cNvGraphicFramePr/>
          <p:nvPr/>
        </p:nvGraphicFramePr>
        <p:xfrm>
          <a:off x="1447920" y="2209680"/>
          <a:ext cx="6095880" cy="41878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19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s week we read about turtles, frogs, otters, and grasshoppers.  All of these animals change as they grow.  What animal changes the most as it grows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oday we will learn about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pthong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ou, 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cabulary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azing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-frequency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jectives that comp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ra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rog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2666880" y="1143000"/>
          <a:ext cx="3559320" cy="5261040"/>
        </p:xfrm>
        <a:graphic>
          <a:graphicData uri="http://schemas.openxmlformats.org/drawingml/2006/table">
            <a:tbl>
              <a:tblPr/>
              <a:tblGrid>
                <a:gridCol w="3559320"/>
              </a:tblGrid>
              <a:tr h="529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Amaz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earanc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g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nsform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tles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rs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op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ag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epa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Frogs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380880" y="1295280"/>
          <a:ext cx="3200400" cy="5230800"/>
        </p:xfrm>
        <a:graphic>
          <a:graphicData uri="http://schemas.openxmlformats.org/drawingml/2006/table">
            <a:tbl>
              <a:tblPr/>
              <a:tblGrid>
                <a:gridCol w="3200400"/>
              </a:tblGrid>
              <a:tr h="523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Word Family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m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ex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o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ien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n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3" name=""/>
          <p:cNvGraphicFramePr/>
          <p:nvPr/>
        </p:nvGraphicFramePr>
        <p:xfrm>
          <a:off x="3886200" y="1295280"/>
          <a:ext cx="4876920" cy="5261040"/>
        </p:xfrm>
        <a:graphic>
          <a:graphicData uri="http://schemas.openxmlformats.org/drawingml/2006/table">
            <a:tbl>
              <a:tblPr/>
              <a:tblGrid>
                <a:gridCol w="4876920"/>
              </a:tblGrid>
              <a:tr h="529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ound        crow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out          south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wn          mous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und         downtow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ower         </a:t>
                      </a: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mountai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l           </a:t>
                      </a: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boundar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ound       </a:t>
                      </a: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drows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un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ipthongs </a:t>
            </a: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ou, ow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 at that clown pout and frown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put the brown couch in her hou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class will walk around downtow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cloud over the tower looks like an ow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rog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2971800" y="1295280"/>
          <a:ext cx="3352680" cy="5162760"/>
        </p:xfrm>
        <a:graphic>
          <a:graphicData uri="http://schemas.openxmlformats.org/drawingml/2006/table">
            <a:tbl>
              <a:tblPr/>
              <a:tblGrid>
                <a:gridCol w="3352680"/>
              </a:tblGrid>
              <a:tr h="519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Vocabulary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n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nderfu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werfu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ect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awl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ki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Vocabulary Words</a:t>
            </a:r>
            <a:br>
              <a:rPr sz="4000"/>
            </a:b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crawls, skin, wonderful, insects, powerful, shed, pond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646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am what a snake does when it loses its skin.  What am I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am another word for strong.  What am I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am a small body of water.  What am I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am another word for fantastic.  What am I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am the way a baby moves on its hands and knees.  What am I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am another name for bugs.  What am I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cover the outside of your body.  What am I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Frogs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2743200" y="1371600"/>
          <a:ext cx="3733920" cy="5230800"/>
        </p:xfrm>
        <a:graphic>
          <a:graphicData uri="http://schemas.openxmlformats.org/drawingml/2006/table">
            <a:tbl>
              <a:tblPr/>
              <a:tblGrid>
                <a:gridCol w="3733920"/>
              </a:tblGrid>
              <a:tr h="523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High Frequency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uil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ldn’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th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v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th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aigh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304560" y="-360"/>
            <a:ext cx="8839080" cy="70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aily Fix-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mom bought a pound of aples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Arial"/>
              </a:rPr>
              <a:t>Mom bought a pound of apples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did bill find the crown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Arial"/>
              </a:rPr>
              <a:t>Did Bill find the crown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iagrams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diagram is a picture with labeled parts that can provide important inform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science and social studies textbooks has many diagrams to help you learn information easi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 in your books and find examples of diagrams and explain what they sho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3851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b7"/>
                </a:solidFill>
                <a:latin typeface="Verdana"/>
                <a:ea typeface="Arial"/>
              </a:rPr>
              <a:t>transform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Verdana"/>
                <a:ea typeface="Arial"/>
              </a:rPr>
              <a:t>trans - 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When you </a:t>
            </a:r>
            <a:r>
              <a:rPr b="1" lang="en-US" sz="3200" spc="-1" strike="noStrike">
                <a:solidFill>
                  <a:srgbClr val="990000"/>
                </a:solidFill>
                <a:latin typeface="Verdana"/>
                <a:ea typeface="Arial"/>
              </a:rPr>
              <a:t>transform</a:t>
            </a: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 something, you change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The gardener will </a:t>
            </a:r>
            <a:r>
              <a:rPr b="1" lang="en-US" sz="3200" spc="-1" strike="noStrike">
                <a:solidFill>
                  <a:srgbClr val="990000"/>
                </a:solidFill>
                <a:latin typeface="Verdana"/>
                <a:ea typeface="Arial"/>
              </a:rPr>
              <a:t>transform</a:t>
            </a: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 the drab backyard into a beautiful gard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We will </a:t>
            </a:r>
            <a:r>
              <a:rPr b="1" lang="en-US" sz="3200" spc="-1" strike="noStrike">
                <a:solidFill>
                  <a:srgbClr val="990000"/>
                </a:solidFill>
                <a:latin typeface="Verdana"/>
                <a:ea typeface="Arial"/>
              </a:rPr>
              <a:t>transform</a:t>
            </a: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 the basement into a great playro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rap Up Your Week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Let’s Talk About Our Changing World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Frogs</a:t>
            </a: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Friday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1447920" y="22860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te about the stages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f an insect or frog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Verdana"/>
              </a:rPr>
              <a:t>We are now ready to </a:t>
            </a:r>
            <a:br>
              <a:rPr sz="4400"/>
            </a:br>
            <a:r>
              <a:rPr b="1" lang="en-US" sz="4400" spc="-1" strike="noStrike">
                <a:solidFill>
                  <a:srgbClr val="99cc00"/>
                </a:solidFill>
                <a:latin typeface="Verdana"/>
              </a:rPr>
              <a:t>take our story tests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057040" y="1904760"/>
            <a:ext cx="655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Story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Classroom webpage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Student pag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  <a:ea typeface="Arial"/>
              </a:rPr>
              <a:t>Taking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Other Reading Quizz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Quiz # 90462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Frogs</a:t>
            </a: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Friday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452" name=""/>
          <p:cNvGraphicFramePr/>
          <p:nvPr/>
        </p:nvGraphicFramePr>
        <p:xfrm>
          <a:off x="1447920" y="22860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ed Link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tional Geographic</a:t>
                      </a:r>
                      <a:br>
                        <a:rPr sz="2800"/>
                      </a:b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als of a Tadpol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APTPlus Videos </a:t>
            </a:r>
            <a:br>
              <a:rPr sz="4400"/>
            </a:br>
            <a:r>
              <a:rPr b="0" lang="en-US" sz="3200" spc="-1" strike="noStrike">
                <a:solidFill>
                  <a:srgbClr val="990000"/>
                </a:solidFill>
                <a:latin typeface="Arial Black"/>
              </a:rPr>
              <a:t>(password required)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phibians, Fish, and Reptiles (26:00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imal Life Cycles (14:00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nior Zoologist: Fish, Amphibians, and Reptiles (16:06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imal Faces, Animal Places (18:00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imal Profiles: Frogs (10:00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phibians: Amazing Animals (22:34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agic School Bus Hops Home (26:12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imals Around Us: Amphibians: What Are They? (20:00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nimal Names T-char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752480" y="1905120"/>
          <a:ext cx="5715000" cy="3892320"/>
        </p:xfrm>
        <a:graphic>
          <a:graphicData uri="http://schemas.openxmlformats.org/drawingml/2006/table">
            <a:tbl>
              <a:tblPr/>
              <a:tblGrid>
                <a:gridCol w="2857680"/>
                <a:gridCol w="28573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Baby Animal Nam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Adult Animal Nam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4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nimal Names T-char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752480" y="1905120"/>
          <a:ext cx="5715000" cy="3892320"/>
        </p:xfrm>
        <a:graphic>
          <a:graphicData uri="http://schemas.openxmlformats.org/drawingml/2006/table">
            <a:tbl>
              <a:tblPr/>
              <a:tblGrid>
                <a:gridCol w="2857680"/>
                <a:gridCol w="28573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Baby Animal Nam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Adult Animal Nam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4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dpo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nimal Names T-char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752480" y="1905120"/>
          <a:ext cx="5715000" cy="3892320"/>
        </p:xfrm>
        <a:graphic>
          <a:graphicData uri="http://schemas.openxmlformats.org/drawingml/2006/table">
            <a:tbl>
              <a:tblPr/>
              <a:tblGrid>
                <a:gridCol w="2857680"/>
                <a:gridCol w="28573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Baby Animal Nam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Adult Animal Nam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4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dpo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o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nimal Names T-char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752480" y="1905120"/>
          <a:ext cx="5715000" cy="3892320"/>
        </p:xfrm>
        <a:graphic>
          <a:graphicData uri="http://schemas.openxmlformats.org/drawingml/2006/table">
            <a:tbl>
              <a:tblPr/>
              <a:tblGrid>
                <a:gridCol w="2857680"/>
                <a:gridCol w="28573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Baby Animal Nam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Adult Animal Nam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4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dpo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o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545840" y="2523960"/>
            <a:ext cx="6591240" cy="26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cc00"/>
                </a:solidFill>
                <a:latin typeface="Verdana"/>
              </a:rPr>
              <a:t>Small Group</a:t>
            </a:r>
            <a:r>
              <a:rPr b="1" lang="en-US" sz="54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5400" spc="-1" strike="noStrike" u="sng">
                <a:solidFill>
                  <a:srgbClr val="99ff66"/>
                </a:solidFill>
                <a:uFillTx/>
                <a:latin typeface="Verdana"/>
                <a:hlinkClick r:id="rId1"/>
              </a:rPr>
              <a:t>Time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nimal Names T-char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752480" y="1905120"/>
          <a:ext cx="5715000" cy="3892320"/>
        </p:xfrm>
        <a:graphic>
          <a:graphicData uri="http://schemas.openxmlformats.org/drawingml/2006/table">
            <a:tbl>
              <a:tblPr/>
              <a:tblGrid>
                <a:gridCol w="2857680"/>
                <a:gridCol w="28573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Baby Animal Nam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Adult Animal Nam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4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dpo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o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r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nimal Names T-char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752480" y="1905120"/>
          <a:ext cx="5715000" cy="3892320"/>
        </p:xfrm>
        <a:graphic>
          <a:graphicData uri="http://schemas.openxmlformats.org/drawingml/2006/table">
            <a:tbl>
              <a:tblPr/>
              <a:tblGrid>
                <a:gridCol w="2857680"/>
                <a:gridCol w="28573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Baby Animal Nam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Adult Animal Nam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4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dpo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i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o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r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nimal Names T-char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752480" y="1905120"/>
          <a:ext cx="5715000" cy="3892320"/>
        </p:xfrm>
        <a:graphic>
          <a:graphicData uri="http://schemas.openxmlformats.org/drawingml/2006/table">
            <a:tbl>
              <a:tblPr/>
              <a:tblGrid>
                <a:gridCol w="2857680"/>
                <a:gridCol w="28573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Baby Animal Nam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Adult Animal Nam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4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dpo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i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o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r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ick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nimal Names T-char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752480" y="1905120"/>
          <a:ext cx="5715000" cy="3892320"/>
        </p:xfrm>
        <a:graphic>
          <a:graphicData uri="http://schemas.openxmlformats.org/drawingml/2006/table">
            <a:tbl>
              <a:tblPr/>
              <a:tblGrid>
                <a:gridCol w="2857680"/>
                <a:gridCol w="28573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Baby Animal Nam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Adult Animal Nam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4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dpo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i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itt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o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r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ick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nimal Names T-char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752480" y="1905120"/>
          <a:ext cx="5715000" cy="3892320"/>
        </p:xfrm>
        <a:graphic>
          <a:graphicData uri="http://schemas.openxmlformats.org/drawingml/2006/table">
            <a:tbl>
              <a:tblPr/>
              <a:tblGrid>
                <a:gridCol w="2857680"/>
                <a:gridCol w="28573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Baby Animal Nam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Adult Animal Nam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4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dpo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i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itt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o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r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ick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nimal Names T-char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752480" y="1905120"/>
          <a:ext cx="5715000" cy="3892320"/>
        </p:xfrm>
        <a:graphic>
          <a:graphicData uri="http://schemas.openxmlformats.org/drawingml/2006/table">
            <a:tbl>
              <a:tblPr/>
              <a:tblGrid>
                <a:gridCol w="2857680"/>
                <a:gridCol w="28573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Baby Animal Nam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Adult Animal Nam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4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dpo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i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itt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pp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o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r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ick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nimal Names T-char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752480" y="1905120"/>
          <a:ext cx="5715000" cy="3892320"/>
        </p:xfrm>
        <a:graphic>
          <a:graphicData uri="http://schemas.openxmlformats.org/drawingml/2006/table">
            <a:tbl>
              <a:tblPr/>
              <a:tblGrid>
                <a:gridCol w="2857680"/>
                <a:gridCol w="28573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Baby Animal Nam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Adult Animal Nam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4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dpo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i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itt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pp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o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r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ick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nimal Names T-char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752480" y="1905120"/>
          <a:ext cx="5715000" cy="4022640"/>
        </p:xfrm>
        <a:graphic>
          <a:graphicData uri="http://schemas.openxmlformats.org/drawingml/2006/table">
            <a:tbl>
              <a:tblPr/>
              <a:tblGrid>
                <a:gridCol w="2857680"/>
                <a:gridCol w="28573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Baby Animal Nam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Adult Animal Nam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dpo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i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itt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pp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l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o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r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ick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nimal Names T-char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752480" y="1905120"/>
          <a:ext cx="5715000" cy="4022640"/>
        </p:xfrm>
        <a:graphic>
          <a:graphicData uri="http://schemas.openxmlformats.org/drawingml/2006/table">
            <a:tbl>
              <a:tblPr/>
              <a:tblGrid>
                <a:gridCol w="2857680"/>
                <a:gridCol w="28573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Baby Animal Nam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Adult Animal Nam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dpo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i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itt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pp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l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o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r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ick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ipthongs: </a:t>
            </a:r>
            <a:r>
              <a:rPr b="1" i="1" lang="en-US" sz="4400" spc="-1" strike="noStrike">
                <a:solidFill>
                  <a:srgbClr val="ffffb7"/>
                </a:solidFill>
                <a:latin typeface="Arial Black"/>
              </a:rPr>
              <a:t>ou, ow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8312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o you know about reading this wor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ay we’ll learn another sound for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ow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w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etters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ow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tand for the sound in ow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Frogs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Online Games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371600"/>
          <a:ext cx="4267440" cy="5257800"/>
        </p:xfrm>
        <a:graphic>
          <a:graphicData uri="http://schemas.openxmlformats.org/drawingml/2006/table">
            <a:tbl>
              <a:tblPr/>
              <a:tblGrid>
                <a:gridCol w="4267440"/>
              </a:tblGrid>
              <a:tr h="525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Vocabulary &amp; Amazing Words: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ea typeface="Arial"/>
                          <a:hlinkClick r:id="rId1"/>
                        </a:rPr>
                        <a:t>Arcade Gam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ea typeface="Arial"/>
                          <a:hlinkClick r:id="rId2"/>
                        </a:rPr>
                        <a:t>Jigwo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ea typeface="Arial"/>
                          <a:hlinkClick r:id="rId3"/>
                        </a:rPr>
                        <a:t>Matchwo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ea typeface="Arial"/>
                          <a:hlinkClick r:id="rId4"/>
                        </a:rPr>
                        <a:t>Speedwo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ea typeface="Arial"/>
                          <a:hlinkClick r:id="rId5"/>
                        </a:rPr>
                        <a:t>Wordsear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ea typeface="Arial"/>
                          <a:hlinkClick r:id="rId6"/>
                        </a:rPr>
                        <a:t>Word We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ea typeface="Arial"/>
                          <a:hlinkClick r:id="rId7"/>
                        </a:rPr>
                        <a:t>Spelling City: voc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ea typeface="Arial"/>
                          <a:hlinkClick r:id="rId8"/>
                        </a:rPr>
                        <a:t>Spelling City: amaz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4952880" y="1371600"/>
          <a:ext cx="3787920" cy="5257800"/>
        </p:xfrm>
        <a:graphic>
          <a:graphicData uri="http://schemas.openxmlformats.org/drawingml/2006/table">
            <a:tbl>
              <a:tblPr/>
              <a:tblGrid>
                <a:gridCol w="3787920"/>
              </a:tblGrid>
              <a:tr h="525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pelling Words: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ea typeface="Arial"/>
                          <a:hlinkClick r:id="rId9"/>
                        </a:rPr>
                        <a:t>Speedwo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ea typeface="Arial"/>
                          <a:hlinkClick r:id="rId10"/>
                        </a:rPr>
                        <a:t>Word We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ea typeface="Arial"/>
                          <a:hlinkClick r:id="rId11"/>
                        </a:rPr>
                        <a:t>Quia Gam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ea typeface="Arial"/>
                          <a:hlinkClick r:id="rId12"/>
                        </a:rPr>
                        <a:t>Spelling C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High Frequency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ea typeface="Arial"/>
                          <a:hlinkClick r:id="rId13"/>
                        </a:rPr>
                        <a:t>Spelling C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Sound-Spelling Card"/>
          <p:cNvPicPr/>
          <p:nvPr/>
        </p:nvPicPr>
        <p:blipFill>
          <a:blip r:embed="rId1"/>
          <a:stretch/>
        </p:blipFill>
        <p:spPr>
          <a:xfrm>
            <a:off x="2819520" y="380880"/>
            <a:ext cx="38322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ipthongs: </a:t>
            </a:r>
            <a:r>
              <a:rPr b="1" i="1" lang="en-US" sz="4400" spc="-1" strike="noStrike">
                <a:solidFill>
                  <a:srgbClr val="ffffb7"/>
                </a:solidFill>
                <a:latin typeface="Arial Black"/>
              </a:rPr>
              <a:t>ou, ow</a:t>
            </a:r>
            <a:br>
              <a:rPr sz="4400"/>
            </a:b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Blend these words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99840" y="1904760"/>
            <a:ext cx="3165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w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orting Dipthongs: </a:t>
            </a:r>
            <a:r>
              <a:rPr b="1" i="1" lang="en-US" sz="4400" spc="-1" strike="noStrike">
                <a:solidFill>
                  <a:srgbClr val="ffffb7"/>
                </a:solidFill>
                <a:latin typeface="Arial Black"/>
              </a:rPr>
              <a:t>ou, ow</a:t>
            </a:r>
            <a:br>
              <a:rPr sz="4400"/>
            </a:br>
            <a:r>
              <a:rPr b="0" i="1" lang="en-US" sz="2000" spc="-1" strike="noStrike">
                <a:solidFill>
                  <a:srgbClr val="ffffff"/>
                </a:solidFill>
                <a:latin typeface="Arial Black"/>
              </a:rPr>
              <a:t>frown, snow, glow, cloud, down, growl, flown, ouch, count, crown, throw, round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838080" y="1905120"/>
          <a:ext cx="8007480" cy="2895480"/>
        </p:xfrm>
        <a:graphic>
          <a:graphicData uri="http://schemas.openxmlformats.org/drawingml/2006/table">
            <a:tbl>
              <a:tblPr/>
              <a:tblGrid>
                <a:gridCol w="2668680"/>
                <a:gridCol w="2670120"/>
                <a:gridCol w="2668680"/>
              </a:tblGrid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Owl (ou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Owl (ow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Ocea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0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orting Dipthongs: </a:t>
            </a:r>
            <a:r>
              <a:rPr b="1" i="1" lang="en-US" sz="4400" spc="-1" strike="noStrike">
                <a:solidFill>
                  <a:srgbClr val="ffffb7"/>
                </a:solidFill>
                <a:latin typeface="Arial Black"/>
              </a:rPr>
              <a:t>ou, ow</a:t>
            </a:r>
            <a:br>
              <a:rPr sz="4400"/>
            </a:br>
            <a:r>
              <a:rPr b="0" i="1" lang="en-US" sz="2000" spc="-1" strike="noStrike">
                <a:solidFill>
                  <a:srgbClr val="ffffff"/>
                </a:solidFill>
                <a:latin typeface="Arial Black"/>
              </a:rPr>
              <a:t>frown, snow, glow, cloud, down, growl, flown, ouch, count, crown, throw, round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838080" y="1905120"/>
          <a:ext cx="8007480" cy="2895480"/>
        </p:xfrm>
        <a:graphic>
          <a:graphicData uri="http://schemas.openxmlformats.org/drawingml/2006/table">
            <a:tbl>
              <a:tblPr/>
              <a:tblGrid>
                <a:gridCol w="2668680"/>
                <a:gridCol w="2670120"/>
                <a:gridCol w="2668680"/>
              </a:tblGrid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Owl (ou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Owl (ow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Ocea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0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orting Dipthongs: </a:t>
            </a:r>
            <a:r>
              <a:rPr b="1" i="1" lang="en-US" sz="4400" spc="-1" strike="noStrike">
                <a:solidFill>
                  <a:srgbClr val="ffffb7"/>
                </a:solidFill>
                <a:latin typeface="Arial Black"/>
              </a:rPr>
              <a:t>ou, ow</a:t>
            </a:r>
            <a:br>
              <a:rPr sz="4400"/>
            </a:br>
            <a:r>
              <a:rPr b="0" i="1" lang="en-US" sz="2000" spc="-1" strike="noStrike">
                <a:solidFill>
                  <a:srgbClr val="ffffff"/>
                </a:solidFill>
                <a:latin typeface="Arial Black"/>
              </a:rPr>
              <a:t>frown, snow, glow, cloud, down, growl, flown, ouch, count, crown, throw, round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838080" y="1905120"/>
          <a:ext cx="8007480" cy="2895480"/>
        </p:xfrm>
        <a:graphic>
          <a:graphicData uri="http://schemas.openxmlformats.org/drawingml/2006/table">
            <a:tbl>
              <a:tblPr/>
              <a:tblGrid>
                <a:gridCol w="2668680"/>
                <a:gridCol w="2670120"/>
                <a:gridCol w="2668680"/>
              </a:tblGrid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Owl (ou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Owl (ow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Ocea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0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n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orting Dipthongs: </a:t>
            </a:r>
            <a:r>
              <a:rPr b="1" i="1" lang="en-US" sz="4400" spc="-1" strike="noStrike">
                <a:solidFill>
                  <a:srgbClr val="ffffb7"/>
                </a:solidFill>
                <a:latin typeface="Arial Black"/>
              </a:rPr>
              <a:t>ou, ow</a:t>
            </a:r>
            <a:br>
              <a:rPr sz="4400"/>
            </a:br>
            <a:r>
              <a:rPr b="0" i="1" lang="en-US" sz="2000" spc="-1" strike="noStrike">
                <a:solidFill>
                  <a:srgbClr val="ffffff"/>
                </a:solidFill>
                <a:latin typeface="Arial Black"/>
              </a:rPr>
              <a:t>frown, snow, glow, cloud, down, growl, flown, ouch, count, crown, throw, round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838080" y="1905120"/>
          <a:ext cx="8007480" cy="2895480"/>
        </p:xfrm>
        <a:graphic>
          <a:graphicData uri="http://schemas.openxmlformats.org/drawingml/2006/table">
            <a:tbl>
              <a:tblPr/>
              <a:tblGrid>
                <a:gridCol w="2668680"/>
                <a:gridCol w="2670120"/>
                <a:gridCol w="2668680"/>
              </a:tblGrid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Owl (ou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Owl (ow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Ocea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0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n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l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orting Dipthongs: </a:t>
            </a:r>
            <a:r>
              <a:rPr b="1" i="1" lang="en-US" sz="4400" spc="-1" strike="noStrike">
                <a:solidFill>
                  <a:srgbClr val="ffffb7"/>
                </a:solidFill>
                <a:latin typeface="Arial Black"/>
              </a:rPr>
              <a:t>ou, ow</a:t>
            </a:r>
            <a:br>
              <a:rPr sz="4400"/>
            </a:br>
            <a:r>
              <a:rPr b="0" i="1" lang="en-US" sz="2000" spc="-1" strike="noStrike">
                <a:solidFill>
                  <a:srgbClr val="ffffff"/>
                </a:solidFill>
                <a:latin typeface="Arial Black"/>
              </a:rPr>
              <a:t>frown, snow, glow, cloud, down, growl, flown, ouch, count, crown, throw, round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838080" y="1905120"/>
          <a:ext cx="8007480" cy="2895480"/>
        </p:xfrm>
        <a:graphic>
          <a:graphicData uri="http://schemas.openxmlformats.org/drawingml/2006/table">
            <a:tbl>
              <a:tblPr/>
              <a:tblGrid>
                <a:gridCol w="2668680"/>
                <a:gridCol w="2670120"/>
                <a:gridCol w="2668680"/>
              </a:tblGrid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Owl (ou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Owl (ow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Ocea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0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ou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n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l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orting Dipthongs: </a:t>
            </a:r>
            <a:r>
              <a:rPr b="1" i="1" lang="en-US" sz="4400" spc="-1" strike="noStrike">
                <a:solidFill>
                  <a:srgbClr val="ffffb7"/>
                </a:solidFill>
                <a:latin typeface="Arial Black"/>
              </a:rPr>
              <a:t>ou, ow</a:t>
            </a:r>
            <a:br>
              <a:rPr sz="4400"/>
            </a:br>
            <a:r>
              <a:rPr b="0" i="1" lang="en-US" sz="2000" spc="-1" strike="noStrike">
                <a:solidFill>
                  <a:srgbClr val="ffffff"/>
                </a:solidFill>
                <a:latin typeface="Arial Black"/>
              </a:rPr>
              <a:t>frown, snow, glow, cloud, down, growl, flown, ouch, count, crown, throw, round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838080" y="1905120"/>
          <a:ext cx="8007480" cy="2895480"/>
        </p:xfrm>
        <a:graphic>
          <a:graphicData uri="http://schemas.openxmlformats.org/drawingml/2006/table">
            <a:tbl>
              <a:tblPr/>
              <a:tblGrid>
                <a:gridCol w="2668680"/>
                <a:gridCol w="2670120"/>
                <a:gridCol w="2668680"/>
              </a:tblGrid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Owl (ou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Owl (ow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Ocea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0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ou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n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l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orting Dipthongs: </a:t>
            </a:r>
            <a:r>
              <a:rPr b="1" i="1" lang="en-US" sz="4400" spc="-1" strike="noStrike">
                <a:solidFill>
                  <a:srgbClr val="ffffb7"/>
                </a:solidFill>
                <a:latin typeface="Arial Black"/>
              </a:rPr>
              <a:t>ou, ow</a:t>
            </a:r>
            <a:br>
              <a:rPr sz="4400"/>
            </a:br>
            <a:r>
              <a:rPr b="0" i="1" lang="en-US" sz="2000" spc="-1" strike="noStrike">
                <a:solidFill>
                  <a:srgbClr val="ffffff"/>
                </a:solidFill>
                <a:latin typeface="Arial Black"/>
              </a:rPr>
              <a:t>frown, snow, glow, cloud, down, growl, flown, ouch, count, crown, throw, round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838080" y="1905120"/>
          <a:ext cx="8007480" cy="2895480"/>
        </p:xfrm>
        <a:graphic>
          <a:graphicData uri="http://schemas.openxmlformats.org/drawingml/2006/table">
            <a:tbl>
              <a:tblPr/>
              <a:tblGrid>
                <a:gridCol w="2668680"/>
                <a:gridCol w="2670120"/>
                <a:gridCol w="2668680"/>
              </a:tblGrid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Owl (ou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Owl (ow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Ocea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0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ou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ow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n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l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orting Dipthongs: </a:t>
            </a:r>
            <a:r>
              <a:rPr b="1" i="1" lang="en-US" sz="4400" spc="-1" strike="noStrike">
                <a:solidFill>
                  <a:srgbClr val="ffffb7"/>
                </a:solidFill>
                <a:latin typeface="Arial Black"/>
              </a:rPr>
              <a:t>ou, ow</a:t>
            </a:r>
            <a:br>
              <a:rPr sz="4400"/>
            </a:br>
            <a:r>
              <a:rPr b="0" i="1" lang="en-US" sz="2000" spc="-1" strike="noStrike">
                <a:solidFill>
                  <a:srgbClr val="ffffff"/>
                </a:solidFill>
                <a:latin typeface="Arial Black"/>
              </a:rPr>
              <a:t>frown, snow, glow, cloud, down, growl, flown, ouch, count, crown, throw, round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838080" y="1905120"/>
          <a:ext cx="8007480" cy="2895480"/>
        </p:xfrm>
        <a:graphic>
          <a:graphicData uri="http://schemas.openxmlformats.org/drawingml/2006/table">
            <a:tbl>
              <a:tblPr/>
              <a:tblGrid>
                <a:gridCol w="2668680"/>
                <a:gridCol w="2670120"/>
                <a:gridCol w="2668680"/>
              </a:tblGrid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Owl (ou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Owl (ow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Ocea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0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ou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ow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n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l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rog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914400" y="1219320"/>
          <a:ext cx="3352680" cy="5162400"/>
        </p:xfrm>
        <a:graphic>
          <a:graphicData uri="http://schemas.openxmlformats.org/drawingml/2006/table">
            <a:tbl>
              <a:tblPr/>
              <a:tblGrid>
                <a:gridCol w="3352680"/>
              </a:tblGrid>
              <a:tr h="519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Vocabulary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n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nderfu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werfu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ect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awl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ki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4876920" y="1219320"/>
          <a:ext cx="3558960" cy="5260680"/>
        </p:xfrm>
        <a:graphic>
          <a:graphicData uri="http://schemas.openxmlformats.org/drawingml/2006/table">
            <a:tbl>
              <a:tblPr/>
              <a:tblGrid>
                <a:gridCol w="3558960"/>
              </a:tblGrid>
              <a:tr h="529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Amaz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earanc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g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nsform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tles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rs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op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ag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epa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orting Dipthongs: </a:t>
            </a:r>
            <a:r>
              <a:rPr b="1" i="1" lang="en-US" sz="4400" spc="-1" strike="noStrike">
                <a:solidFill>
                  <a:srgbClr val="ffffb7"/>
                </a:solidFill>
                <a:latin typeface="Arial Black"/>
              </a:rPr>
              <a:t>ou, ow</a:t>
            </a:r>
            <a:br>
              <a:rPr sz="4400"/>
            </a:br>
            <a:r>
              <a:rPr b="0" i="1" lang="en-US" sz="2000" spc="-1" strike="noStrike">
                <a:solidFill>
                  <a:srgbClr val="ffffff"/>
                </a:solidFill>
                <a:latin typeface="Arial Black"/>
              </a:rPr>
              <a:t>frown, snow, glow, cloud, down, growl, flown, ouch, count, crown, throw, round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838080" y="1905120"/>
          <a:ext cx="8007480" cy="2895480"/>
        </p:xfrm>
        <a:graphic>
          <a:graphicData uri="http://schemas.openxmlformats.org/drawingml/2006/table">
            <a:tbl>
              <a:tblPr/>
              <a:tblGrid>
                <a:gridCol w="2668680"/>
                <a:gridCol w="2670120"/>
                <a:gridCol w="2668680"/>
              </a:tblGrid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Owl (ou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Owl (ow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Ocea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0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ou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ow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n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l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orting Dipthongs: </a:t>
            </a:r>
            <a:r>
              <a:rPr b="1" i="1" lang="en-US" sz="4400" spc="-1" strike="noStrike">
                <a:solidFill>
                  <a:srgbClr val="ffffb7"/>
                </a:solidFill>
                <a:latin typeface="Arial Black"/>
              </a:rPr>
              <a:t>ou, ow</a:t>
            </a:r>
            <a:br>
              <a:rPr sz="4400"/>
            </a:br>
            <a:r>
              <a:rPr b="0" i="1" lang="en-US" sz="2000" spc="-1" strike="noStrike">
                <a:solidFill>
                  <a:srgbClr val="ffffff"/>
                </a:solidFill>
                <a:latin typeface="Arial Black"/>
              </a:rPr>
              <a:t>frown, snow, glow, cloud, down, growl, flown, ouch, count, crown, throw, round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838080" y="1905120"/>
          <a:ext cx="8007480" cy="2895480"/>
        </p:xfrm>
        <a:graphic>
          <a:graphicData uri="http://schemas.openxmlformats.org/drawingml/2006/table">
            <a:tbl>
              <a:tblPr/>
              <a:tblGrid>
                <a:gridCol w="2668680"/>
                <a:gridCol w="2670120"/>
                <a:gridCol w="2668680"/>
              </a:tblGrid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Owl (ou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Owl (ow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Ocea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0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ou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ow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n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l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orting Dipthongs: </a:t>
            </a:r>
            <a:r>
              <a:rPr b="1" i="1" lang="en-US" sz="4400" spc="-1" strike="noStrike">
                <a:solidFill>
                  <a:srgbClr val="ffffb7"/>
                </a:solidFill>
                <a:latin typeface="Arial Black"/>
              </a:rPr>
              <a:t>ou, ow</a:t>
            </a:r>
            <a:br>
              <a:rPr sz="4400"/>
            </a:br>
            <a:r>
              <a:rPr b="0" i="1" lang="en-US" sz="2000" spc="-1" strike="noStrike">
                <a:solidFill>
                  <a:srgbClr val="ffffff"/>
                </a:solidFill>
                <a:latin typeface="Arial Black"/>
              </a:rPr>
              <a:t>frown, snow, glow, cloud, down, growl, flown, ouch, count, crown, throw, round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838080" y="1905120"/>
          <a:ext cx="8007480" cy="2895480"/>
        </p:xfrm>
        <a:graphic>
          <a:graphicData uri="http://schemas.openxmlformats.org/drawingml/2006/table">
            <a:tbl>
              <a:tblPr/>
              <a:tblGrid>
                <a:gridCol w="2668680"/>
                <a:gridCol w="2670120"/>
                <a:gridCol w="2668680"/>
              </a:tblGrid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Owl (ou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Owl (ow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Ocea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0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ou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ow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n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l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orting Dipthongs: </a:t>
            </a:r>
            <a:r>
              <a:rPr b="1" i="1" lang="en-US" sz="4400" spc="-1" strike="noStrike">
                <a:solidFill>
                  <a:srgbClr val="ffffb7"/>
                </a:solidFill>
                <a:latin typeface="Arial Black"/>
              </a:rPr>
              <a:t>ou, ow</a:t>
            </a:r>
            <a:br>
              <a:rPr sz="4400"/>
            </a:br>
            <a:r>
              <a:rPr b="0" i="1" lang="en-US" sz="2000" spc="-1" strike="noStrike">
                <a:solidFill>
                  <a:srgbClr val="ffffff"/>
                </a:solidFill>
                <a:latin typeface="Arial Black"/>
              </a:rPr>
              <a:t>frown, snow, glow, cloud, down, growl, flown, ouch, count, crown, throw, round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838080" y="1905120"/>
          <a:ext cx="8007480" cy="2895480"/>
        </p:xfrm>
        <a:graphic>
          <a:graphicData uri="http://schemas.openxmlformats.org/drawingml/2006/table">
            <a:tbl>
              <a:tblPr/>
              <a:tblGrid>
                <a:gridCol w="2668680"/>
                <a:gridCol w="2670120"/>
                <a:gridCol w="2668680"/>
              </a:tblGrid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Owl (ou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Owl (ow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Ocea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0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ou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ow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n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l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r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orting Dipthongs: </a:t>
            </a:r>
            <a:r>
              <a:rPr b="1" i="1" lang="en-US" sz="4400" spc="-1" strike="noStrike">
                <a:solidFill>
                  <a:srgbClr val="ffffb7"/>
                </a:solidFill>
                <a:latin typeface="Arial Black"/>
              </a:rPr>
              <a:t>ou, ow</a:t>
            </a:r>
            <a:br>
              <a:rPr sz="4400"/>
            </a:br>
            <a:r>
              <a:rPr b="0" i="1" lang="en-US" sz="2000" spc="-1" strike="noStrike">
                <a:solidFill>
                  <a:srgbClr val="ffffff"/>
                </a:solidFill>
                <a:latin typeface="Arial Black"/>
              </a:rPr>
              <a:t>frown, snow, glow, cloud, down, growl, flown, ouch, count, crown, throw, round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838080" y="1905120"/>
          <a:ext cx="8007480" cy="2895480"/>
        </p:xfrm>
        <a:graphic>
          <a:graphicData uri="http://schemas.openxmlformats.org/drawingml/2006/table">
            <a:tbl>
              <a:tblPr/>
              <a:tblGrid>
                <a:gridCol w="2668680"/>
                <a:gridCol w="2670120"/>
                <a:gridCol w="2668680"/>
              </a:tblGrid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Owl (ou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Owl (ow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Ocea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0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ou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u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ow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n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l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r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ipthongs: </a:t>
            </a:r>
            <a:r>
              <a:rPr b="1" i="1" lang="en-US" sz="4400" spc="-1" strike="noStrike">
                <a:solidFill>
                  <a:srgbClr val="ffffb7"/>
                </a:solidFill>
                <a:latin typeface="Arial Black"/>
              </a:rPr>
              <a:t>ou, ow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99840" y="1904760"/>
            <a:ext cx="3165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l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ou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u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ow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wbo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u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Frogs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380880" y="1295280"/>
          <a:ext cx="3200400" cy="5230800"/>
        </p:xfrm>
        <a:graphic>
          <a:graphicData uri="http://schemas.openxmlformats.org/drawingml/2006/table">
            <a:tbl>
              <a:tblPr/>
              <a:tblGrid>
                <a:gridCol w="3200400"/>
              </a:tblGrid>
              <a:tr h="523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Word Family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m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ex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o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ien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n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3886200" y="1295280"/>
          <a:ext cx="4876920" cy="5261040"/>
        </p:xfrm>
        <a:graphic>
          <a:graphicData uri="http://schemas.openxmlformats.org/drawingml/2006/table">
            <a:tbl>
              <a:tblPr/>
              <a:tblGrid>
                <a:gridCol w="4876920"/>
              </a:tblGrid>
              <a:tr h="529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ound        crow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out          south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wn          mous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und         downtow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ower         </a:t>
                      </a: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mountai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l           </a:t>
                      </a: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boundar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ound       </a:t>
                      </a: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drows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un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Verdana"/>
              </a:rPr>
              <a:t>Word Family Word – dime 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Verdana"/>
                <a:hlinkClick r:id="rId1"/>
              </a:rPr>
              <a:t>(online dictionary)</a:t>
            </a:r>
            <a:endParaRPr b="1" lang="en-US" sz="16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579680" y="2046240"/>
          <a:ext cx="6359400" cy="3071880"/>
        </p:xfrm>
        <a:graphic>
          <a:graphicData uri="http://schemas.openxmlformats.org/drawingml/2006/table">
            <a:tbl>
              <a:tblPr/>
              <a:tblGrid>
                <a:gridCol w="2119320"/>
                <a:gridCol w="2120760"/>
                <a:gridCol w="21193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66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l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m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m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r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m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t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m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66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ch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m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cr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m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gr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m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l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m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Verdana"/>
              </a:rPr>
              <a:t>Word Family Word – flex  </a:t>
            </a:r>
            <a:br>
              <a:rPr sz="4400"/>
            </a:br>
            <a:r>
              <a:rPr b="0" lang="en-US" sz="1600" spc="-1" strike="noStrike" u="sng">
                <a:solidFill>
                  <a:srgbClr val="99ff66"/>
                </a:solidFill>
                <a:uFillTx/>
                <a:latin typeface="Verdana"/>
                <a:hlinkClick r:id="rId1"/>
              </a:rPr>
              <a:t>(online dictionary)</a:t>
            </a:r>
            <a:endParaRPr b="1" lang="en-US" sz="16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579680" y="2046240"/>
          <a:ext cx="6359400" cy="3730680"/>
        </p:xfrm>
        <a:graphic>
          <a:graphicData uri="http://schemas.openxmlformats.org/drawingml/2006/table">
            <a:tbl>
              <a:tblPr/>
              <a:tblGrid>
                <a:gridCol w="2119320"/>
                <a:gridCol w="2120760"/>
                <a:gridCol w="21193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66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h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x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R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x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s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x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T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x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v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x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66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Ch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x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fl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x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Verdana"/>
              </a:rPr>
              <a:t>Word Family Word - foot </a:t>
            </a:r>
            <a:br>
              <a:rPr sz="4400"/>
            </a:br>
            <a:r>
              <a:rPr b="0" lang="en-US" sz="1600" spc="-1" strike="noStrike" u="sng">
                <a:solidFill>
                  <a:srgbClr val="99ff66"/>
                </a:solidFill>
                <a:uFillTx/>
                <a:latin typeface="Verdana"/>
                <a:hlinkClick r:id="rId1"/>
              </a:rPr>
              <a:t>(online dictionary)</a:t>
            </a:r>
            <a:endParaRPr b="1" lang="en-US" sz="16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579680" y="2046240"/>
          <a:ext cx="6359400" cy="2514600"/>
        </p:xfrm>
        <a:graphic>
          <a:graphicData uri="http://schemas.openxmlformats.org/drawingml/2006/table">
            <a:tbl>
              <a:tblPr/>
              <a:tblGrid>
                <a:gridCol w="2119320"/>
                <a:gridCol w="2120760"/>
                <a:gridCol w="21193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66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s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o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66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Frogs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743200" y="1371600"/>
          <a:ext cx="3733920" cy="5230800"/>
        </p:xfrm>
        <a:graphic>
          <a:graphicData uri="http://schemas.openxmlformats.org/drawingml/2006/table">
            <a:tbl>
              <a:tblPr/>
              <a:tblGrid>
                <a:gridCol w="3733920"/>
              </a:tblGrid>
              <a:tr h="523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High Frequency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uil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ldn’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th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v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th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aigh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Verdana"/>
              </a:rPr>
              <a:t>Word Family Word - friends 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Verdana"/>
                <a:hlinkClick r:id="rId1"/>
              </a:rPr>
              <a:t>(online dictionary)</a:t>
            </a:r>
            <a:endParaRPr b="1" lang="en-US" sz="16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579680" y="2046240"/>
          <a:ext cx="6359400" cy="2514600"/>
        </p:xfrm>
        <a:graphic>
          <a:graphicData uri="http://schemas.openxmlformats.org/drawingml/2006/table">
            <a:tbl>
              <a:tblPr/>
              <a:tblGrid>
                <a:gridCol w="2119320"/>
                <a:gridCol w="2120760"/>
                <a:gridCol w="21193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Verdana"/>
              </a:rPr>
              <a:t>Word Family Word - fun </a:t>
            </a:r>
            <a:br>
              <a:rPr sz="4400"/>
            </a:br>
            <a:r>
              <a:rPr b="0" lang="en-US" sz="1600" spc="-1" strike="noStrike" u="sng">
                <a:solidFill>
                  <a:srgbClr val="99ff66"/>
                </a:solidFill>
                <a:uFillTx/>
                <a:latin typeface="Verdana"/>
                <a:hlinkClick r:id="rId1"/>
              </a:rPr>
              <a:t>(online dictionary)</a:t>
            </a:r>
            <a:endParaRPr b="1" lang="en-US" sz="16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579680" y="2046240"/>
          <a:ext cx="6359400" cy="4389480"/>
        </p:xfrm>
        <a:graphic>
          <a:graphicData uri="http://schemas.openxmlformats.org/drawingml/2006/table">
            <a:tbl>
              <a:tblPr/>
              <a:tblGrid>
                <a:gridCol w="2119320"/>
                <a:gridCol w="2120760"/>
                <a:gridCol w="21193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66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d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g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r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s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66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sh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p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t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pare &amp; Contrast &amp; Graphic Organizer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838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ember i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he Quilt Stor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ow Abigail used the quil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d the animals in the attic use the quilt in the same way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you compare and contrast things, you tell how they are alike and differ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graphic organizer helps you organize information.  The chart can help you keep track of how things are alike and differ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5" descr="Student Pages"/>
          <p:cNvPicPr/>
          <p:nvPr/>
        </p:nvPicPr>
        <p:blipFill>
          <a:blip r:embed="rId1"/>
          <a:stretch/>
        </p:blipFill>
        <p:spPr>
          <a:xfrm>
            <a:off x="228600" y="304920"/>
            <a:ext cx="8686800" cy="61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304560" y="151920"/>
            <a:ext cx="883908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aily Fix-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e bride wore a white goun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Arial"/>
              </a:rPr>
              <a:t>The bride wore a white gown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dan rode a bus dontow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Arial"/>
              </a:rPr>
              <a:t>Dan rode a bus downtown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djectives that Compa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 adjective describes a person, place, animal, or th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dd –er to an adjective to compare two persons, places, or thing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dd –est to compare three or more persons, places, or thing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djectives that Compa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chick is </a:t>
            </a: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small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than the he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Small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compares two things—the chick and the he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egg is </a:t>
            </a: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smalles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of the thre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Smalles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compares three things—the egg, the chick, and the he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djectives that Compa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ons are faster than zebra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djectives that Compa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ons are </a:t>
            </a: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fast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than zebra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cheetah is the fastest animal on lan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djectives that Compa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ons are </a:t>
            </a: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fast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than zebra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cheetah is the </a:t>
            </a: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fastes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animal on lan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blue whale is the longest animal of al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Frogs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3200400" cy="5230800"/>
        </p:xfrm>
        <a:graphic>
          <a:graphicData uri="http://schemas.openxmlformats.org/drawingml/2006/table">
            <a:tbl>
              <a:tblPr/>
              <a:tblGrid>
                <a:gridCol w="3200400"/>
              </a:tblGrid>
              <a:tr h="523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Word Family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m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ex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o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ien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n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3886200" y="1295280"/>
          <a:ext cx="4876920" cy="5261040"/>
        </p:xfrm>
        <a:graphic>
          <a:graphicData uri="http://schemas.openxmlformats.org/drawingml/2006/table">
            <a:tbl>
              <a:tblPr/>
              <a:tblGrid>
                <a:gridCol w="4876920"/>
              </a:tblGrid>
              <a:tr h="529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ound        crow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out          south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wn          mous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und         downtow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ower         </a:t>
                      </a: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mountai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l           </a:t>
                      </a: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boundar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ound       </a:t>
                      </a: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drows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un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djectives that Compa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ons are </a:t>
            </a: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fast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than zebra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cheetah is the </a:t>
            </a: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fastes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animal on lan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blue whale is the </a:t>
            </a: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longes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animal of al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djectives that Compa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lphins are longer than porpois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djectives that Compa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lphins are </a:t>
            </a: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long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than porpois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pine tree is taller than an oak tre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djectives that Compa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lphins are </a:t>
            </a: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long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than porpois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pine tree is </a:t>
            </a: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tall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than an oak tre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dwoods are the tallest trees of al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djectives that Compa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lphins are </a:t>
            </a: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long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than porpois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pine tree is </a:t>
            </a: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tall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than an oak tre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dwoods are the </a:t>
            </a: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talles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trees of al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djectives that Compare</a:t>
            </a:r>
            <a:br>
              <a:rPr sz="4400"/>
            </a:b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Fill in the chart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838080" y="1905120"/>
          <a:ext cx="8007480" cy="2705040"/>
        </p:xfrm>
        <a:graphic>
          <a:graphicData uri="http://schemas.openxmlformats.org/drawingml/2006/table">
            <a:tbl>
              <a:tblPr/>
              <a:tblGrid>
                <a:gridCol w="2668680"/>
                <a:gridCol w="2670120"/>
                <a:gridCol w="266868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One th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Two thin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Three thin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o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lde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ortes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djectives that Compare</a:t>
            </a:r>
            <a:br>
              <a:rPr sz="4400"/>
            </a:b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Fill in the chart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838080" y="1905120"/>
          <a:ext cx="8007480" cy="2705040"/>
        </p:xfrm>
        <a:graphic>
          <a:graphicData uri="http://schemas.openxmlformats.org/drawingml/2006/table">
            <a:tbl>
              <a:tblPr/>
              <a:tblGrid>
                <a:gridCol w="2668680"/>
                <a:gridCol w="2670120"/>
                <a:gridCol w="266868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One th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Two thin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Three thin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o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ole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lde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ortes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djectives that Compare</a:t>
            </a:r>
            <a:br>
              <a:rPr sz="4400"/>
            </a:b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Fill in the chart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838080" y="1905120"/>
          <a:ext cx="8007480" cy="2705040"/>
        </p:xfrm>
        <a:graphic>
          <a:graphicData uri="http://schemas.openxmlformats.org/drawingml/2006/table">
            <a:tbl>
              <a:tblPr/>
              <a:tblGrid>
                <a:gridCol w="2668680"/>
                <a:gridCol w="2670120"/>
                <a:gridCol w="266868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One th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Two thin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Three thin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o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ole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lde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oles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ortes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djectives that Compare</a:t>
            </a:r>
            <a:br>
              <a:rPr sz="4400"/>
            </a:b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Fill in the chart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838080" y="1905120"/>
          <a:ext cx="8007480" cy="2705040"/>
        </p:xfrm>
        <a:graphic>
          <a:graphicData uri="http://schemas.openxmlformats.org/drawingml/2006/table">
            <a:tbl>
              <a:tblPr/>
              <a:tblGrid>
                <a:gridCol w="2668680"/>
                <a:gridCol w="2670120"/>
                <a:gridCol w="266868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One th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Two thin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Three thin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o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ld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ole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lde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oles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ortes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djectives that Compare</a:t>
            </a:r>
            <a:br>
              <a:rPr sz="4400"/>
            </a:b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Fill in the chart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838080" y="1905120"/>
          <a:ext cx="8007480" cy="2705040"/>
        </p:xfrm>
        <a:graphic>
          <a:graphicData uri="http://schemas.openxmlformats.org/drawingml/2006/table">
            <a:tbl>
              <a:tblPr/>
              <a:tblGrid>
                <a:gridCol w="2668680"/>
                <a:gridCol w="2670120"/>
                <a:gridCol w="266868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One th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Two thin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Three thin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o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ld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ole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lde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oles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ldes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ortes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85120" cy="124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7"/>
                </a:solidFill>
                <a:latin typeface="Arial Black"/>
              </a:rPr>
              <a:t>Big Question: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0" lang="en-US" sz="3600" spc="-1" strike="noStrike">
                <a:solidFill>
                  <a:srgbClr val="ffffb7"/>
                </a:solidFill>
                <a:latin typeface="Arial Black"/>
              </a:rPr>
              <a:t>How do animals change </a:t>
            </a:r>
            <a:br>
              <a:rPr sz="3600"/>
            </a:br>
            <a:r>
              <a:rPr b="0" lang="en-US" sz="3600" spc="-1" strike="noStrike">
                <a:solidFill>
                  <a:srgbClr val="ffffb7"/>
                </a:solidFill>
                <a:latin typeface="Arial Black"/>
              </a:rPr>
              <a:t>as they grow?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38280" y="2666880"/>
            <a:ext cx="63309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Mon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2" action="ppaction://hlinksldjump"/>
              </a:rPr>
              <a:t>Tues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3" action="ppaction://hlinksldjump"/>
              </a:rPr>
              <a:t>Wednes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4" action="ppaction://hlinksldjump"/>
              </a:rPr>
              <a:t>Thurs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5" action="ppaction://hlinksldjump"/>
              </a:rPr>
              <a:t>Fri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djectives that Compare</a:t>
            </a:r>
            <a:br>
              <a:rPr sz="4400"/>
            </a:b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Fill in the chart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838080" y="1905120"/>
          <a:ext cx="8007480" cy="2705040"/>
        </p:xfrm>
        <a:graphic>
          <a:graphicData uri="http://schemas.openxmlformats.org/drawingml/2006/table">
            <a:tbl>
              <a:tblPr/>
              <a:tblGrid>
                <a:gridCol w="2668680"/>
                <a:gridCol w="2670120"/>
                <a:gridCol w="266868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One th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Two thin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Three thin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o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ld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or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ole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lde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oles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ldes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ortes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djectives that Compare</a:t>
            </a:r>
            <a:br>
              <a:rPr sz="4400"/>
            </a:b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Fill in the chart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838080" y="1905120"/>
          <a:ext cx="8007480" cy="2705040"/>
        </p:xfrm>
        <a:graphic>
          <a:graphicData uri="http://schemas.openxmlformats.org/drawingml/2006/table">
            <a:tbl>
              <a:tblPr/>
              <a:tblGrid>
                <a:gridCol w="2668680"/>
                <a:gridCol w="2670120"/>
                <a:gridCol w="266868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One th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Two thin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Three thin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o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ld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or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ole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lde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orte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oles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ldes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ortes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rap Up Your Day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pthongs ou, 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e and contr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’s Talk About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morrow we will read a selection about an animal that grows and changes as it gets older—a fro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rogs</a:t>
            </a:r>
            <a:r>
              <a:rPr b="0" lang="en-US" sz="48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4800"/>
            </a:b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Monday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523880" y="2362320"/>
          <a:ext cx="6096240" cy="382248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91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te a paragraph explaining how you would change your bedroom if you could.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rogs</a:t>
            </a:r>
            <a:r>
              <a:rPr b="0" lang="en-US" sz="48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4800"/>
            </a:b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Monday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1523880" y="2362320"/>
          <a:ext cx="6096240" cy="382248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91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te a paragraph explaining how you would change your bedroom if you could.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Frogs</a:t>
            </a: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Tuesday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1676520" y="2286000"/>
          <a:ext cx="6095880" cy="41878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19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day we will read about tadpoles.  Tadpoles grow bigger and stronger until they are frogs.  Frogs are the highest jumpers! What else can frogs do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Frogs</a:t>
            </a: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Tuesday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1676520" y="2286000"/>
          <a:ext cx="6095880" cy="41878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19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day we will read about tadpoles.  Tadpoles grow </a:t>
                      </a: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bigger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nd </a:t>
                      </a: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stronger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until they are frogs.  Frogs are the </a:t>
                      </a: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highest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jumpers! What else can frogs do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oday we will learn about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azing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pthongs: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ou, 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cabulary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ffix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–f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d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jectives that Comp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99072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Verdana"/>
              <a:ea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1676520" y="2895480"/>
          <a:ext cx="6095880" cy="1737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3851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b7"/>
                </a:solidFill>
                <a:latin typeface="Verdana"/>
                <a:ea typeface="Arial"/>
              </a:rPr>
              <a:t>restless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Verdana"/>
                <a:ea typeface="Arial"/>
              </a:rPr>
              <a:t>rest - less</a:t>
            </a: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When you feel </a:t>
            </a:r>
            <a:r>
              <a:rPr b="1" lang="en-US" sz="3200" spc="-1" strike="noStrike">
                <a:solidFill>
                  <a:srgbClr val="990000"/>
                </a:solidFill>
                <a:latin typeface="Verdana"/>
                <a:ea typeface="Arial"/>
              </a:rPr>
              <a:t>restless</a:t>
            </a: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, you are not able to be still, or you want a chan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The baby was </a:t>
            </a:r>
            <a:r>
              <a:rPr b="1" lang="en-US" sz="3200" spc="-1" strike="noStrike">
                <a:solidFill>
                  <a:srgbClr val="990000"/>
                </a:solidFill>
                <a:latin typeface="Verdana"/>
                <a:ea typeface="Arial"/>
              </a:rPr>
              <a:t>restless</a:t>
            </a: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 in her stroll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He becamse </a:t>
            </a:r>
            <a:r>
              <a:rPr b="1" lang="en-US" sz="3200" spc="-1" strike="noStrike">
                <a:solidFill>
                  <a:srgbClr val="990000"/>
                </a:solidFill>
                <a:latin typeface="Verdana"/>
                <a:ea typeface="Arial"/>
              </a:rPr>
              <a:t>restless</a:t>
            </a: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 after sitting for two hou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The man was </a:t>
            </a:r>
            <a:r>
              <a:rPr b="1" lang="en-US" sz="3200" spc="-1" strike="noStrike">
                <a:solidFill>
                  <a:srgbClr val="990000"/>
                </a:solidFill>
                <a:latin typeface="Verdana"/>
                <a:ea typeface="Arial"/>
              </a:rPr>
              <a:t>restless</a:t>
            </a: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 after doing the same job for ten ye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rogs </a:t>
            </a:r>
            <a:br>
              <a:rPr sz="4400"/>
            </a:b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Monday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523880" y="2362320"/>
          <a:ext cx="6096240" cy="418788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419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imals everywhere start life as babies.  Each animal has a mother and a father.  Over time, the babies grow.  How do animals change as they grow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3851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b7"/>
                </a:solidFill>
                <a:latin typeface="Verdana"/>
                <a:ea typeface="Arial"/>
              </a:rPr>
              <a:t>pursue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Verdana"/>
                <a:ea typeface="Arial"/>
              </a:rPr>
              <a:t>pur - sue</a:t>
            </a: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When you </a:t>
            </a:r>
            <a:r>
              <a:rPr b="1" lang="en-US" sz="3200" spc="-1" strike="noStrike">
                <a:solidFill>
                  <a:srgbClr val="990000"/>
                </a:solidFill>
                <a:latin typeface="Verdana"/>
                <a:ea typeface="Arial"/>
              </a:rPr>
              <a:t>pursue</a:t>
            </a: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 something, you follow or chase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Sharks </a:t>
            </a:r>
            <a:r>
              <a:rPr b="1" lang="en-US" sz="3200" spc="-1" strike="noStrike">
                <a:solidFill>
                  <a:srgbClr val="990000"/>
                </a:solidFill>
                <a:latin typeface="Verdana"/>
                <a:ea typeface="Arial"/>
              </a:rPr>
              <a:t>pursue</a:t>
            </a: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 smaller fis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The police </a:t>
            </a:r>
            <a:r>
              <a:rPr b="1" lang="en-US" sz="3200" spc="-1" strike="noStrike">
                <a:solidFill>
                  <a:srgbClr val="990000"/>
                </a:solidFill>
                <a:latin typeface="Verdana"/>
                <a:ea typeface="Arial"/>
              </a:rPr>
              <a:t>pursued</a:t>
            </a: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 the bank robb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She will </a:t>
            </a:r>
            <a:r>
              <a:rPr b="1" lang="en-US" sz="3200" spc="-1" strike="noStrike">
                <a:solidFill>
                  <a:srgbClr val="990000"/>
                </a:solidFill>
                <a:latin typeface="Verdana"/>
                <a:ea typeface="Arial"/>
              </a:rPr>
              <a:t>pursue</a:t>
            </a: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 her dream of becoming a doct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3851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b7"/>
                </a:solidFill>
                <a:latin typeface="Verdana"/>
                <a:ea typeface="Arial"/>
              </a:rPr>
              <a:t>canopy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Verdana"/>
                <a:ea typeface="Arial"/>
              </a:rPr>
              <a:t>can –o –py </a:t>
            </a: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A </a:t>
            </a:r>
            <a:r>
              <a:rPr b="1" lang="en-US" sz="3200" spc="-1" strike="noStrike">
                <a:solidFill>
                  <a:srgbClr val="990000"/>
                </a:solidFill>
                <a:latin typeface="Verdana"/>
                <a:ea typeface="Arial"/>
              </a:rPr>
              <a:t>canopy</a:t>
            </a: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 is a covering above something el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Emily has a green and white </a:t>
            </a:r>
            <a:r>
              <a:rPr b="1" lang="en-US" sz="3200" spc="-1" strike="noStrike">
                <a:solidFill>
                  <a:srgbClr val="990000"/>
                </a:solidFill>
                <a:latin typeface="Verdana"/>
                <a:ea typeface="Arial"/>
              </a:rPr>
              <a:t>canopy</a:t>
            </a: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 over her b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There is a kelp </a:t>
            </a:r>
            <a:r>
              <a:rPr b="1" lang="en-US" sz="3200" spc="-1" strike="noStrike">
                <a:solidFill>
                  <a:srgbClr val="990000"/>
                </a:solidFill>
                <a:latin typeface="Verdana"/>
                <a:ea typeface="Arial"/>
              </a:rPr>
              <a:t>canopy</a:t>
            </a: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 floating on the surface of the oce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"/>
                <a:ea typeface="Arial"/>
              </a:rPr>
              <a:t>canopy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80520" y="1371600"/>
            <a:ext cx="8464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6" descr="canopy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1371600"/>
            <a:ext cx="3048120" cy="22953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8" descr="Universal-Canopy-101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72200" y="1371600"/>
            <a:ext cx="2657520" cy="18111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0" descr="Square_Bed_Canopy_with_Ros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80880" y="389556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2" descr="Canopy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553080" y="4191120"/>
            <a:ext cx="2295720" cy="22953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4" descr="roof_mounted_beam_canopy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200400" y="4199040"/>
            <a:ext cx="3048120" cy="22971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6" descr="entrance_canopy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581280" y="1371600"/>
            <a:ext cx="251460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ipthongs: </a:t>
            </a:r>
            <a:r>
              <a:rPr b="1" i="1" lang="en-US" sz="4400" spc="-1" strike="noStrike">
                <a:solidFill>
                  <a:srgbClr val="ffffb7"/>
                </a:solidFill>
                <a:latin typeface="Arial Black"/>
              </a:rPr>
              <a:t>ou, ow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312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w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can read this word because you know how to read words with the letters ow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etters ow can stand for /ou/ or /o/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sound do the letters ow stand for in this wor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u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sound do the letters ow stand for in this wor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ipthongs: </a:t>
            </a:r>
            <a:r>
              <a:rPr b="1" i="1" lang="en-US" sz="4400" spc="-1" strike="noStrike">
                <a:solidFill>
                  <a:srgbClr val="ffffb7"/>
                </a:solidFill>
                <a:latin typeface="Arial Black"/>
              </a:rPr>
              <a:t>ou, ow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312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you come to a new word, look at the letters from left to right and think about the vowel sound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y the sounds in the word to yourself and then read the wo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o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ows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ipthongs: </a:t>
            </a:r>
            <a:r>
              <a:rPr b="1" i="1" lang="en-US" sz="4400" spc="-1" strike="noStrike">
                <a:solidFill>
                  <a:srgbClr val="ffffb7"/>
                </a:solidFill>
                <a:latin typeface="Arial Black"/>
              </a:rPr>
              <a:t>ou, ow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285640" y="1676160"/>
            <a:ext cx="6559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u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wnt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u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w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r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Dipthongs: </a:t>
            </a:r>
            <a:r>
              <a:rPr b="1" i="1" lang="en-US" sz="4000" spc="-1" strike="noStrike">
                <a:solidFill>
                  <a:srgbClr val="ffffb7"/>
                </a:solidFill>
                <a:latin typeface="Arial Black"/>
              </a:rPr>
              <a:t>ou, ow</a:t>
            </a:r>
            <a:br>
              <a:rPr sz="4000"/>
            </a:br>
            <a:r>
              <a:rPr b="0" i="1" lang="en-US" sz="2000" spc="-1" strike="noStrike">
                <a:solidFill>
                  <a:srgbClr val="ffffff"/>
                </a:solidFill>
                <a:latin typeface="Arial Black"/>
              </a:rPr>
              <a:t>Find the words with ou and ow in “The Tadpoles and the Wise, Old Owl.”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352680" y="1676160"/>
            <a:ext cx="5492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ow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grouc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r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bo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gr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h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n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p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pr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b7"/>
                </a:solidFill>
                <a:latin typeface="Verdana"/>
              </a:rPr>
              <a:t>Making Words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086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Verdana"/>
                <a:ea typeface="Arial"/>
              </a:rPr>
              <a:t>o, u, e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Verdana"/>
                <a:ea typeface="Arial"/>
              </a:rPr>
              <a:t>b, d, h, m, n, s, t, w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Frogs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380880" y="1295280"/>
          <a:ext cx="3200400" cy="5230800"/>
        </p:xfrm>
        <a:graphic>
          <a:graphicData uri="http://schemas.openxmlformats.org/drawingml/2006/table">
            <a:tbl>
              <a:tblPr/>
              <a:tblGrid>
                <a:gridCol w="3200400"/>
              </a:tblGrid>
              <a:tr h="523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Word Family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m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ex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o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ien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n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6" name=""/>
          <p:cNvGraphicFramePr/>
          <p:nvPr/>
        </p:nvGraphicFramePr>
        <p:xfrm>
          <a:off x="3886200" y="1295280"/>
          <a:ext cx="4876920" cy="5261040"/>
        </p:xfrm>
        <a:graphic>
          <a:graphicData uri="http://schemas.openxmlformats.org/drawingml/2006/table">
            <a:tbl>
              <a:tblPr/>
              <a:tblGrid>
                <a:gridCol w="4876920"/>
              </a:tblGrid>
              <a:tr h="529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ound        crow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out          south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wn          mous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und         downtow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ower         </a:t>
                      </a: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mountai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l           </a:t>
                      </a: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boundar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ound       </a:t>
                      </a: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drows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un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ipthongs: </a:t>
            </a:r>
            <a:r>
              <a:rPr b="1" i="1" lang="en-US" sz="4400" spc="-1" strike="noStrike">
                <a:solidFill>
                  <a:srgbClr val="ffffb7"/>
                </a:solidFill>
                <a:latin typeface="Arial Black"/>
              </a:rPr>
              <a:t>ou, ow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can walk around the south part of downtow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use on the ground did not make a sou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t on that crown and the gown with the flow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rogs </a:t>
            </a:r>
            <a:br>
              <a:rPr sz="4400"/>
            </a:b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Monday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3880" y="2362320"/>
          <a:ext cx="6096240" cy="418788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419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imals </a:t>
                      </a: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everywhere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tart life as babies.  Each animal has a </a:t>
                      </a: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mother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nd a </a:t>
                      </a: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father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Over time, the babies grow.  How do animals change as they grow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Vocabulary Words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406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po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a small body of 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nderful – causing wonder or amaz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werful – having power or great streng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2" action="ppaction://hlinksldjump"/>
              </a:rPr>
              <a:t> insect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– animals with six legs and a three-part bo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awls – moves slowly on hands and kne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3" action="ppaction://hlinksldjump"/>
              </a:rPr>
              <a:t>sk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outer covering of the bo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4" action="ppaction://hlinksldjump"/>
              </a:rPr>
              <a:t> sh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– to drop or l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66"/>
                </a:solidFill>
                <a:uFillTx/>
                <a:latin typeface="Arial"/>
                <a:hlinkClick r:id="rId5" action="ppaction://hlinksldjump"/>
              </a:rPr>
              <a:t>(next slid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99ff66"/>
                </a:solidFill>
                <a:uFillTx/>
                <a:latin typeface="Arial"/>
                <a:ea typeface="Arial"/>
                <a:hlinkClick r:id="rId1" action="ppaction://hlinksldjump"/>
              </a:rPr>
              <a:t>pond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3" name="Picture 6" descr="turtle_pond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080" y="1905120"/>
            <a:ext cx="2743200" cy="20620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PondMay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657600" y="2514600"/>
            <a:ext cx="2162160" cy="29718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0" descr="1212_05_9---Walden-Pond--Massachusetts_web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943600" y="1905120"/>
            <a:ext cx="2886120" cy="19238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2" descr="20071004131121984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838080" y="4105440"/>
            <a:ext cx="2667240" cy="200016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4" descr="crossvine800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019920" y="4002120"/>
            <a:ext cx="281916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99ff66"/>
                </a:solidFill>
                <a:uFillTx/>
                <a:latin typeface="Arial"/>
                <a:ea typeface="Arial"/>
                <a:hlinkClick r:id="rId1" action="ppaction://hlinksldjump"/>
              </a:rPr>
              <a:t>insects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80520" y="1219320"/>
            <a:ext cx="8464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Picture 7" descr="1999us_insect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1219320"/>
            <a:ext cx="4579920" cy="48765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9" descr="examples-insects_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257800" y="1219320"/>
            <a:ext cx="3476520" cy="24303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1" descr="insects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257800" y="3733920"/>
            <a:ext cx="347652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851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99ff66"/>
                </a:solidFill>
                <a:uFillTx/>
                <a:latin typeface="Arial"/>
                <a:ea typeface="Arial"/>
                <a:hlinkClick r:id="rId1" action="ppaction://hlinksldjump"/>
              </a:rPr>
              <a:t>ski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533160" y="1294920"/>
            <a:ext cx="83120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Picture 11" descr="767_skin_sect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19520" y="1295280"/>
            <a:ext cx="3581280" cy="2795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3" descr="skin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858000" y="1295280"/>
            <a:ext cx="1962000" cy="19623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5" descr="personal-skin-car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33520" y="1295280"/>
            <a:ext cx="1820880" cy="27432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7" descr="image152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809880" y="4572000"/>
            <a:ext cx="2743200" cy="19461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9" descr="435311607_5e2a2b1809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33520" y="4275000"/>
            <a:ext cx="3124080" cy="22590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1" descr="50259919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781680" y="3429000"/>
            <a:ext cx="207648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ff66"/>
                </a:solidFill>
                <a:uFillTx/>
                <a:latin typeface="Arial"/>
                <a:ea typeface="Arial"/>
                <a:hlinkClick r:id="rId1" action="ppaction://hlinksldjump"/>
              </a:rPr>
              <a:t>she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Picture 7" descr="shed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080" y="19051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9" descr="ShedSkin_0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461360" y="1905120"/>
            <a:ext cx="1339920" cy="20574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3" descr="ekingshed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590920" y="1905120"/>
            <a:ext cx="2590560" cy="15890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7" descr="Lizard841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971800" y="3962520"/>
            <a:ext cx="2057400" cy="13716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9" descr="2127009252_a737dc72ab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838080" y="4038480"/>
            <a:ext cx="1981440" cy="14637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23" descr="LiveNymph0702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5410080" y="1905120"/>
            <a:ext cx="1828800" cy="15984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5" descr="See full size image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7315200" y="4038480"/>
            <a:ext cx="1523880" cy="12542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7" descr="frog_life_cycle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5181480" y="3657600"/>
            <a:ext cx="2086200" cy="16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Other Words to Know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406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 spaw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– to lay eg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lges – curves outw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getarians – living things that eat only food from pl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66"/>
                </a:solidFill>
                <a:uFillTx/>
                <a:latin typeface="Arial"/>
                <a:hlinkClick r:id="rId2" action="ppaction://hlinksldjump"/>
              </a:rPr>
              <a:t>(next slid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99ff66"/>
                </a:solidFill>
                <a:uFillTx/>
                <a:latin typeface="Arial"/>
                <a:ea typeface="Arial"/>
                <a:hlinkClick r:id="rId1" action="ppaction://hlinksldjump"/>
              </a:rPr>
              <a:t>spaw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Picture 7" descr="flickr-frog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080" y="1905120"/>
            <a:ext cx="2057400" cy="154764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9" descr="EC001028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048120" y="1905120"/>
            <a:ext cx="2971800" cy="20160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3" descr="sandpaper_2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38080" y="3581280"/>
            <a:ext cx="1792440" cy="25718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7" descr="frog%2Bspawn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124080" y="4191120"/>
            <a:ext cx="2514600" cy="19065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9" descr="Frog%2520Spawn%25202007%2520002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172200" y="1905120"/>
            <a:ext cx="2647800" cy="19954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1" descr="Frog%2Bspawn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095880" y="4038480"/>
            <a:ext cx="270540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Vocabulary Word Review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onderfu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ter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owerfu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y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sec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raw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rea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hi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5" descr="Student Pages"/>
          <p:cNvPicPr/>
          <p:nvPr/>
        </p:nvPicPr>
        <p:blipFill>
          <a:blip r:embed="rId1"/>
          <a:stretch/>
        </p:blipFill>
        <p:spPr>
          <a:xfrm>
            <a:off x="228600" y="361800"/>
            <a:ext cx="8686800" cy="613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304560" y="0"/>
            <a:ext cx="8839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aily Fix-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 grey mose ran up the clock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Arial"/>
              </a:rPr>
              <a:t>A grey mouse ran up the clock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did you here that sound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Arial"/>
              </a:rPr>
              <a:t>Did you hear that sound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01:49:22Z</dcterms:created>
  <dc:creator>freida</dc:creator>
  <dc:description/>
  <dc:language>en-US</dc:language>
  <cp:lastModifiedBy>Laura McDow</cp:lastModifiedBy>
  <dcterms:modified xsi:type="dcterms:W3CDTF">2010-07-29T10:07:02Z</dcterms:modified>
  <cp:revision>32</cp:revision>
  <dc:subject/>
  <dc:title>Slide 1</dc:title>
</cp:coreProperties>
</file>